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778625" cy="99107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CBF1B-1B5E-45B1-84E7-66AD2317A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71F80-99E2-45BA-BE66-1D8C038658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0BD3C-54AC-46A3-BB48-3762C38C0F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C4B5-66AA-4EBC-9015-E886045DF9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49CDCB-5008-439C-810D-628C16DB20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A7806-869F-43EB-B12D-822B9B0812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6BB0CE-6AC2-4378-AE04-9D358C7FCD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DA0A18-6D35-480F-9B5A-D4AA21CA6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5ABD26-BC0F-4D58-8813-F73E5D5E28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043EC-4E94-45DC-953A-D0EC5E949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E70B1-1A1D-487F-BCF9-46AEA1BFC9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FD26C-E89B-4B11-870F-C983074D8E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DD327-EC3C-49CD-8BD2-CEFEE4B15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AD70FC-1B91-44B9-A359-605D4F7BCC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74AE79-564B-4F61-B5F9-59C9EFF62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686615-E7AF-451D-8F83-251901119C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9EAF7-6691-4729-B231-D4997A31C5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06FC2-5CF6-45BD-BBA7-3252E3A80A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005C0-BA55-4BAF-902E-F69D1D9AB8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75319-D2E2-4613-A5FA-5C59EB2FB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C1C27-3F1A-42D8-83DE-23091EAF3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5E34-681F-4572-898B-2706A2EF46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0C198-D719-4B3C-8375-840F7CDEF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CFA1C-462A-4AEA-9B15-1146F5F39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73152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352680" y="6172200"/>
            <a:ext cx="18288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8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838080" y="4876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686D28-4C18-4CDB-A1C2-86BBE04DEC06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>
            <a:lum contrast="6000"/>
          </a:blip>
          <a:srcRect l="0" t="-145098" r="0" b="0"/>
          <a:stretch/>
        </p:blipFill>
        <p:spPr>
          <a:xfrm>
            <a:off x="7696080" y="-228600"/>
            <a:ext cx="1219320" cy="609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CB9C14-2D18-4600-AEC1-B4EEB75C65AC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0" y="457200"/>
            <a:ext cx="9144000" cy="5638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Morphism : an exampl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tretch/>
        </p:blipFill>
        <p:spPr>
          <a:xfrm>
            <a:off x="152280" y="1600200"/>
            <a:ext cx="876312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rphism: using librari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228600" y="1600200"/>
            <a:ext cx="868680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CostBib library : detai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53452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4000" spc="-1" strike="noStrike">
                <a:solidFill>
                  <a:srgbClr val="000000"/>
                </a:solidFill>
                <a:latin typeface="Arial"/>
              </a:rPr>
              <a:t>Cost values (target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61084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onclusio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52280" y="1523880"/>
            <a:ext cx="876312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cription of the software dataflow diagra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304920" y="1828800"/>
            <a:ext cx="83818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Description of the architecture targe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457200" y="1600200"/>
            <a:ext cx="8153280" cy="4419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app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380880" y="1676520"/>
            <a:ext cx="845820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lobal compil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1"/>
          <a:stretch/>
        </p:blipFill>
        <p:spPr>
          <a:xfrm>
            <a:off x="304920" y="1676520"/>
            <a:ext cx="86104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Global compiling(2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534520" cy="45720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Adding communication channel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380880" y="1905120"/>
            <a:ext cx="8382240" cy="44193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Performance evaluation :  morphis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676520"/>
            <a:ext cx="8153280" cy="44956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Morphism tab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228600" y="1752480"/>
            <a:ext cx="8610480" cy="449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afeAi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november 26-28, 2001</a:t>
            </a:r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Irisa-RENNES</dc:creator>
  <dc:description/>
  <dc:language>en-US</dc:language>
  <cp:lastModifiedBy>lbesnard</cp:lastModifiedBy>
  <cp:lastPrinted>2001-12-05T10:14:12Z</cp:lastPrinted>
  <dcterms:modified xsi:type="dcterms:W3CDTF">2004-06-28T13:35:41Z</dcterms:modified>
  <cp:revision>190</cp:revision>
  <dc:subject/>
  <dc:title>Formation</dc:title>
</cp:coreProperties>
</file>