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22862-244D-432E-AAC8-CE192641CE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65E32-104F-44A3-9279-8DFB3F5971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2A80C-05FB-499A-A13D-6B2B2DA6FB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338CE-2EE7-4D7F-9E32-3BE47D62BA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AC864E-AF95-4B92-B465-6CB88AD2AC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8968-C945-49F1-9E74-D6D078642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CD4B1A-C47D-4BD0-AF3D-18FA394EEA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F7EB9-A0DD-41F1-8478-2BACC99C3D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807A4-BE5F-4BF3-BFE3-2E5C33ADD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7E85EB-4FD6-4C7A-9245-B642E53A8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1DA754-CBE2-497E-B382-83CCAD2820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AC201-EF89-4800-88C6-950DFB1841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F2C044-3D07-431F-A24F-E902F6C2A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CB65F-3DE0-4E8E-963C-4A8800E969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73B246-5A64-459A-869C-665CC2823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7BB9C-7FED-40E0-90EB-850D4278D7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B0AAD4-5A18-4120-933D-B126FCC203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A2389-D477-4540-8F9A-392303880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4B026-2A59-4902-A404-EAE0357422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5D1B7-4015-4A99-835A-49D2BC4EF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D57AB-0503-49FF-AC9E-FC3B7878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AC3AD-237F-466F-92D2-0D729B625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B1250-7167-40EA-8D4D-D10042311D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FC122-41B1-4C0C-8F39-4F3CBF8EE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15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5D56D-7389-4C8B-AFCD-643466C3EDBC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172200"/>
            <a:ext cx="1828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08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D4A5A-2144-4CF0-95A0-B522C50FC29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lum contrast="6000"/>
          </a:blip>
          <a:srcRect l="0" t="-145098" r="0" b="0"/>
          <a:stretch/>
        </p:blipFill>
        <p:spPr>
          <a:xfrm>
            <a:off x="7696080" y="-228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C03E53-C5FF-42B9-A434-BFBBC88A1704}" type="datetime3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28 July 20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C030A-740B-485A-A2A1-2698B58E5758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PERFORMANCE EVALUAT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64560" y="2174760"/>
            <a:ext cx="6308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ïc Besnard  - Thierry Gautier - Paul Le Guerni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1124640" y="3165480"/>
            <a:ext cx="2518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ethod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8D64F4E-425E-42D8-A6FD-BF7BC5921D21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ugues’ example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Hugues1" descr=""/>
          <p:cNvPicPr/>
          <p:nvPr/>
        </p:nvPicPr>
        <p:blipFill>
          <a:blip r:embed="rId1"/>
          <a:stretch/>
        </p:blipFill>
        <p:spPr>
          <a:xfrm>
            <a:off x="1676520" y="1752480"/>
            <a:ext cx="5742000" cy="4140360"/>
          </a:xfrm>
          <a:prstGeom prst="rect">
            <a:avLst/>
          </a:prstGeom>
          <a:ln w="0">
            <a:noFill/>
          </a:ln>
        </p:spPr>
      </p:pic>
      <p:sp>
        <p:nvSpPr>
          <p:cNvPr id="162" name=""/>
          <p:cNvSpPr/>
          <p:nvPr/>
        </p:nvSpPr>
        <p:spPr>
          <a:xfrm>
            <a:off x="4648320" y="28954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4648320" y="31240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4648320" y="33526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648320" y="35812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257800" y="403848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5257800" y="419112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4800600" y="2286000"/>
            <a:ext cx="609480" cy="0"/>
          </a:xfrm>
          <a:prstGeom prst="line">
            <a:avLst/>
          </a:prstGeom>
          <a:ln w="57240">
            <a:solidFill>
              <a:srgbClr val="00cc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734993-0052-46A4-A9DF-962461D29EE5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clusion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659160" y="2022480"/>
            <a:ext cx="717372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xperimentation of a performance evaluation  techniq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orts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iler optimization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alidat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lychrony : set of functiona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847AC3F-6480-41CD-B0FF-3E357FA32C12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905120" y="2743200"/>
            <a:ext cx="152280" cy="2133720"/>
          </a:xfrm>
          <a:prstGeom prst="downArrow">
            <a:avLst>
              <a:gd name="adj1" fmla="val 50000"/>
              <a:gd name="adj2" fmla="val 350296"/>
            </a:avLst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666880" y="3048120"/>
            <a:ext cx="2286000" cy="459720"/>
          </a:xfrm>
          <a:prstGeom prst="rect">
            <a:avLst/>
          </a:prstGeom>
          <a:solidFill>
            <a:srgbClr val="ffffff"/>
          </a:solidFill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5050"/>
                </a:solidFill>
                <a:latin typeface="Times New Roman"/>
              </a:rPr>
              <a:t>Morphism.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2590920" y="3505320"/>
            <a:ext cx="5029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Operator + (&amp;h&amp;o) :=  CostPlus{&amp;t&amp;i1, &amp;t&amp;i2}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                                     </a:t>
            </a: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(&amp;h&amp;i1, &amp;h&amp;i2, &amp;hck&amp;o, &amp;wait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3124080" y="4343400"/>
            <a:ext cx="2819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ame Clock struct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523880" y="175248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2514600" y="5410080"/>
            <a:ext cx="685800" cy="181080"/>
          </a:xfrm>
          <a:prstGeom prst="rightArrow">
            <a:avLst>
              <a:gd name="adj1" fmla="val 49528"/>
              <a:gd name="adj2" fmla="val 94682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2840" bIns="428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1600200" y="5029200"/>
            <a:ext cx="914400" cy="9144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914400" y="54864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914400" y="50292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ff505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94000" y="217476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955960" y="225108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94720" y="4613400"/>
            <a:ext cx="106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1, .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04920" y="56386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429000" y="5181480"/>
            <a:ext cx="1828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198108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38280" y="2057400"/>
            <a:ext cx="685800" cy="228600"/>
          </a:xfrm>
          <a:prstGeom prst="rightArrow">
            <a:avLst>
              <a:gd name="adj1" fmla="val 49528"/>
              <a:gd name="adj2" fmla="val 75000"/>
            </a:avLst>
          </a:prstGeom>
          <a:solidFill>
            <a:srgbClr val="00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866579A-54A5-464B-8F63-8DB392E99643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Method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671400" y="2174760"/>
            <a:ext cx="180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228600" y="28954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sm.table : can be used for different translations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4232160"/>
            <a:ext cx="8458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Morphism program needs Library for compil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CostPlus) target specializ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B68E7F1-A2C5-4523-A35D-4E61F864895E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2209680" y="2666880"/>
            <a:ext cx="4267440" cy="304812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514600" y="2819520"/>
            <a:ext cx="914400" cy="1752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68880" y="1717560"/>
            <a:ext cx="197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876920" y="4267080"/>
            <a:ext cx="914400" cy="91440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3429000" y="4419720"/>
            <a:ext cx="1447920" cy="0"/>
          </a:xfrm>
          <a:prstGeom prst="line">
            <a:avLst/>
          </a:prstGeom>
          <a:ln w="7632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1371600" y="32004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3200400"/>
            <a:ext cx="358128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7920" y="5029200"/>
            <a:ext cx="34290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5791320" y="4952880"/>
            <a:ext cx="11430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93640" y="2666880"/>
            <a:ext cx="885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6934320" y="2590920"/>
            <a:ext cx="138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581280" y="3962520"/>
            <a:ext cx="1063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993300"/>
                </a:solidFill>
                <a:latin typeface="Times New Roman"/>
              </a:rPr>
              <a:t>c1, ..c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51814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6781680" y="510552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58D8B2F-670B-4C95-9E57-108C85729330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3505320" y="2590920"/>
            <a:ext cx="2133360" cy="2971800"/>
          </a:xfrm>
          <a:prstGeom prst="rect">
            <a:avLst/>
          </a:prstGeom>
          <a:solidFill>
            <a:srgbClr val="c0c0c0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533520" y="2819520"/>
            <a:ext cx="1828800" cy="6094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est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0880" y="4572000"/>
            <a:ext cx="1828800" cy="83808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eGenerato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2362320" y="3200400"/>
            <a:ext cx="114300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5638680" y="3200400"/>
            <a:ext cx="12956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209680" y="5029200"/>
            <a:ext cx="137160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5638680" y="4952880"/>
            <a:ext cx="9907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5943600" y="2590920"/>
            <a:ext cx="1463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1,…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2286000" y="5181480"/>
            <a:ext cx="1190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1,..d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5715000" y="426708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1,…do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514960" y="2590920"/>
            <a:ext cx="88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1,..i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077320" y="4952880"/>
            <a:ext cx="0" cy="99072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 flipH="1">
            <a:off x="1371240" y="5943600"/>
            <a:ext cx="6705720" cy="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 flipV="1">
            <a:off x="1371600" y="5410080"/>
            <a:ext cx="0" cy="53352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038480" y="2819520"/>
            <a:ext cx="914400" cy="914400"/>
          </a:xfrm>
          <a:prstGeom prst="rect">
            <a:avLst/>
          </a:prstGeom>
          <a:solidFill>
            <a:srgbClr val="cc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’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038480" y="4343400"/>
            <a:ext cx="914400" cy="914400"/>
          </a:xfrm>
          <a:prstGeom prst="rect">
            <a:avLst/>
          </a:prstGeom>
          <a:solidFill>
            <a:srgbClr val="ccffcc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(P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43400" y="3733920"/>
            <a:ext cx="228600" cy="609480"/>
          </a:xfrm>
          <a:prstGeom prst="downArrow">
            <a:avLst>
              <a:gd name="adj1" fmla="val 50000"/>
              <a:gd name="adj2" fmla="val 66654"/>
            </a:avLst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6629400" y="4724280"/>
            <a:ext cx="914400" cy="1067040"/>
          </a:xfrm>
          <a:prstGeom prst="rect">
            <a:avLst/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v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7620120" y="4952880"/>
            <a:ext cx="83808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7758000" y="438480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v1,..,v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2895480" y="5715000"/>
            <a:ext cx="3733920" cy="0"/>
          </a:xfrm>
          <a:prstGeom prst="line">
            <a:avLst/>
          </a:prstGeom>
          <a:ln w="76320">
            <a:solidFill>
              <a:srgbClr val="0066ff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2895480" y="5029200"/>
            <a:ext cx="0" cy="685800"/>
          </a:xfrm>
          <a:prstGeom prst="line">
            <a:avLst/>
          </a:prstGeom>
          <a:ln w="76320">
            <a:solidFill>
              <a:srgbClr val="0066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FA867E9-9001-47F2-A067-DE313A376F83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048120" y="1676520"/>
            <a:ext cx="1428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emos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1826280" y="2438280"/>
            <a:ext cx="43473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lving for X    aX  + b X + c = 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sing iterative Newton met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0 =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X(n) +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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 &gt;= 0 ,  X(n+1) =  -----------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X(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top when | X(n-1) - X(n)| &lt;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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191120" y="2286000"/>
            <a:ext cx="95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2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782CFB-7046-4B6C-BD90-6E5E777D9401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066680" y="2514600"/>
            <a:ext cx="6167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1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--&gt; ordering -&gt; 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2 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--&gt; Clusters(P) -&gt; ordering -&gt; Morphis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-simula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FECAC0C-E1ED-45EA-9498-F3DEE936BF55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62120" y="1371600"/>
            <a:ext cx="8001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3: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(|  Q | R |)    (mapping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 Global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Partitioning :  Q’ and R’ (booleans are ad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Q1  = Clusters(Q’’| C(Q’)))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d code 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* R1 = Clusters(R’’ | C(R’)))     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separated code g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  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 Q1) |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</a:rPr>
              <a:t>Abs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( R1) 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794F336-C3BD-4AB4-A96B-B0A4C6651F0D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perimentation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62120" y="1752480"/>
            <a:ext cx="761976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 =(|  Q | R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lobal compil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titioning :  Q’ and R’ (booleans are added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|  step :: (|  Abs(Q’) | Abs(R’) 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 latency :: (| C(Q’)  | C(R’)  |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 step ---&gt; latenc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|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DBDE8D4-3B24-431E-830E-C16D6440F884}" type="datetime3">
              <a:rPr lang="en-US"/>
              <a:t>July 28, 2026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Thierry Gautier</cp:lastModifiedBy>
  <cp:lastPrinted>2002-06-28T11:46:48Z</cp:lastPrinted>
  <dcterms:modified xsi:type="dcterms:W3CDTF">2002-08-30T13:52:47Z</dcterms:modified>
  <cp:revision>257</cp:revision>
  <dc:subject/>
  <dc:title>Formation</dc:title>
</cp:coreProperties>
</file>