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media/image5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746875" cy="9717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BF8EAC-B433-49E0-BFD0-9AA478FFF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4FB6B-6380-488C-AA13-5E1B2242C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D6350C-B93D-4FF4-BB70-38DEA2081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BD5B-29B3-4E42-BE2C-3888C13394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954595-18D4-4AF7-A43C-D77F578D11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081E0-B2F6-4D91-88A7-46504722F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4AD1F8-7F28-4BB8-93FE-4DA81223A7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2E1FE3-25ED-4C43-8A1F-E05857C095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A26399-85D9-4ADD-ACA8-B2D2CF39E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8F3E8A-257D-49F3-9DF1-4DB2144DE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56E440-F16C-482D-96C0-CA4F72B30D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BC2FA-1ABB-4BA5-8ABF-2722C54767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074608-0650-4860-95AB-C6F78C1E60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D8E675-FEFC-4447-BC18-955C2101D4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4B09A6-80A4-49DD-B020-AB9317B05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BB078E-0B5F-4AC3-BE3D-BE13B510FC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AA3D39-B460-445D-A479-F784A15839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35449-D17B-4408-B4B7-34E1B75341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538F-930F-40F3-9098-730C6D7B8F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930D5-5678-4F62-BCF6-4B8F34D7E4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DCD50-7BE8-4CAB-9248-0B708733FD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FC203-CA0B-4E78-8F04-F518CCA1E2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9EB5-0A1C-41B5-97FD-85EB63B0A7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6B3B6-298F-472B-A1F6-A30596A55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410320" y="1440"/>
            <a:ext cx="17543160" cy="13690440"/>
            <a:chOff x="-8410320" y="1440"/>
            <a:chExt cx="17543160" cy="13690440"/>
          </a:xfrm>
        </p:grpSpPr>
        <p:sp>
          <p:nvSpPr>
            <p:cNvPr id="1" name=""/>
            <p:cNvSpPr/>
            <p:nvPr/>
          </p:nvSpPr>
          <p:spPr>
            <a:xfrm>
              <a:off x="5388120" y="1585800"/>
              <a:ext cx="3744720" cy="5261040"/>
            </a:xfrm>
            <a:custGeom>
              <a:avLst/>
              <a:gdLst/>
              <a:ahLst/>
              <a:rect l="l" t="t" r="r" b="b"/>
              <a:pathLst>
                <a:path w="2359" h="3314">
                  <a:moveTo>
                    <a:pt x="1905" y="3312"/>
                  </a:moveTo>
                  <a:lnTo>
                    <a:pt x="2358" y="3313"/>
                  </a:lnTo>
                  <a:lnTo>
                    <a:pt x="2358" y="1437"/>
                  </a:lnTo>
                  <a:lnTo>
                    <a:pt x="0" y="0"/>
                  </a:lnTo>
                  <a:lnTo>
                    <a:pt x="201" y="150"/>
                  </a:lnTo>
                  <a:lnTo>
                    <a:pt x="366" y="279"/>
                  </a:lnTo>
                  <a:lnTo>
                    <a:pt x="552" y="441"/>
                  </a:lnTo>
                  <a:lnTo>
                    <a:pt x="732" y="612"/>
                  </a:lnTo>
                  <a:lnTo>
                    <a:pt x="996" y="903"/>
                  </a:lnTo>
                  <a:lnTo>
                    <a:pt x="1230" y="1212"/>
                  </a:lnTo>
                  <a:lnTo>
                    <a:pt x="1400" y="1482"/>
                  </a:lnTo>
                  <a:lnTo>
                    <a:pt x="1548" y="1761"/>
                  </a:lnTo>
                  <a:lnTo>
                    <a:pt x="1665" y="2040"/>
                  </a:lnTo>
                  <a:lnTo>
                    <a:pt x="1751" y="2295"/>
                  </a:lnTo>
                  <a:lnTo>
                    <a:pt x="1809" y="2511"/>
                  </a:lnTo>
                  <a:lnTo>
                    <a:pt x="1863" y="2778"/>
                  </a:lnTo>
                  <a:lnTo>
                    <a:pt x="1890" y="3012"/>
                  </a:lnTo>
                  <a:lnTo>
                    <a:pt x="1905" y="3312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51a2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-8410320" y="1440"/>
              <a:ext cx="16820640" cy="1369044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0800" y="0"/>
                  </a:moveTo>
                  <a:arcTo wR="10800" hR="10800" stAng="-5400000" swAng="5400000"/>
                  <a:lnTo>
                    <a:pt x="10800" y="10800"/>
                  </a:lnTo>
                  <a:close/>
                </a:path>
                <a:path fill="none" w="21600" h="21600">
                  <a:moveTo>
                    <a:pt x="10800" y="0"/>
                  </a:moveTo>
                  <a:arcTo wR="10800" hR="10800" stAng="-5400000" swAng="5400000"/>
                </a:path>
              </a:pathLst>
            </a:custGeom>
            <a:noFill/>
            <a:ln cap="rnd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6699ff"/>
              </a:buClr>
              <a:buSzPct val="6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462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960920" indent="-226080">
              <a:spcBef>
                <a:spcPts val="799"/>
              </a:spcBef>
              <a:buClr>
                <a:srgbClr val="6699ff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9609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9609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4647960" y="6248160"/>
            <a:ext cx="1600200" cy="5331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91BE07-EA0A-41D6-8EF2-80B63B4C214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" descr=""/>
          <p:cNvPicPr/>
          <p:nvPr/>
        </p:nvPicPr>
        <p:blipFill>
          <a:blip r:embed="rId2"/>
          <a:srcRect l="0" t="-145098" r="0" b="0"/>
          <a:stretch/>
        </p:blipFill>
        <p:spPr>
          <a:xfrm>
            <a:off x="3735360" y="6400800"/>
            <a:ext cx="857160" cy="228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-7761240" y="1461240"/>
            <a:ext cx="16905240" cy="10793520"/>
            <a:chOff x="-7761240" y="1461240"/>
            <a:chExt cx="16905240" cy="10793520"/>
          </a:xfrm>
        </p:grpSpPr>
        <p:sp>
          <p:nvSpPr>
            <p:cNvPr id="46" name=""/>
            <p:cNvSpPr/>
            <p:nvPr/>
          </p:nvSpPr>
          <p:spPr>
            <a:xfrm>
              <a:off x="3271680" y="2709720"/>
              <a:ext cx="5872320" cy="4148280"/>
            </a:xfrm>
            <a:custGeom>
              <a:avLst/>
              <a:gdLst/>
              <a:ahLst/>
              <a:rect l="l" t="t" r="r" b="b"/>
              <a:pathLst>
                <a:path w="3699" h="2613">
                  <a:moveTo>
                    <a:pt x="1523" y="2611"/>
                  </a:moveTo>
                  <a:lnTo>
                    <a:pt x="3698" y="2612"/>
                  </a:lnTo>
                  <a:lnTo>
                    <a:pt x="3698" y="2228"/>
                  </a:lnTo>
                  <a:lnTo>
                    <a:pt x="0" y="0"/>
                  </a:lnTo>
                  <a:lnTo>
                    <a:pt x="160" y="118"/>
                  </a:lnTo>
                  <a:lnTo>
                    <a:pt x="292" y="219"/>
                  </a:lnTo>
                  <a:lnTo>
                    <a:pt x="441" y="347"/>
                  </a:lnTo>
                  <a:lnTo>
                    <a:pt x="585" y="482"/>
                  </a:lnTo>
                  <a:lnTo>
                    <a:pt x="796" y="711"/>
                  </a:lnTo>
                  <a:lnTo>
                    <a:pt x="983" y="955"/>
                  </a:lnTo>
                  <a:lnTo>
                    <a:pt x="1119" y="1168"/>
                  </a:lnTo>
                  <a:lnTo>
                    <a:pt x="1238" y="1388"/>
                  </a:lnTo>
                  <a:lnTo>
                    <a:pt x="1331" y="1608"/>
                  </a:lnTo>
                  <a:lnTo>
                    <a:pt x="1400" y="1809"/>
                  </a:lnTo>
                  <a:lnTo>
                    <a:pt x="1447" y="1979"/>
                  </a:lnTo>
                  <a:lnTo>
                    <a:pt x="1490" y="2190"/>
                  </a:lnTo>
                  <a:lnTo>
                    <a:pt x="1511" y="2374"/>
                  </a:lnTo>
                  <a:lnTo>
                    <a:pt x="1523" y="2611"/>
                  </a:lnTo>
                </a:path>
              </a:pathLst>
            </a:custGeom>
            <a:gradFill rotWithShape="0">
              <a:gsLst>
                <a:gs pos="0">
                  <a:srgbClr val="66ccff"/>
                </a:gs>
                <a:gs pos="100000">
                  <a:srgbClr val="51a2cb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-7761240" y="1461240"/>
              <a:ext cx="13452120" cy="10793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2405" y="120"/>
                  </a:moveTo>
                  <a:arcTo wR="10800" hR="10800" stAng="-4887058" swAng="4887058"/>
                  <a:lnTo>
                    <a:pt x="10800" y="10800"/>
                  </a:lnTo>
                  <a:close/>
                </a:path>
                <a:path fill="none" w="21600" h="21600">
                  <a:moveTo>
                    <a:pt x="12405" y="120"/>
                  </a:moveTo>
                  <a:arcTo wR="10800" hR="10800" stAng="-4887058" swAng="4887058"/>
                </a:path>
              </a:pathLst>
            </a:custGeom>
            <a:noFill/>
            <a:ln cap="rnd" w="12600">
              <a:solidFill>
                <a:srgbClr val="66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29384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1CC521-D722-495B-BD33-A16AF5CDDE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189000"/>
            <a:ext cx="8640720" cy="110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n ongoing use of Polychrony </a:t>
            </a:r>
            <a:br>
              <a:rPr sz="2800"/>
            </a:b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ling of Modular Avionics Architectures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based on ARINC 653 standar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/>
          </p:nvPr>
        </p:nvSpPr>
        <p:spPr>
          <a:xfrm>
            <a:off x="323640" y="1413000"/>
            <a:ext cx="8135640" cy="504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00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Times New Roman"/>
              </a:rPr>
              <a:t>Integrated Modular Avionics architectures (IMA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692360" y="2205000"/>
            <a:ext cx="5333760" cy="4157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6E60D-5822-4A51-B0FA-29F21951A9E7}" type="slidenum">
              <a:t>1</a:t>
            </a:fld>
          </a:p>
        </p:txBody>
      </p:sp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685800" y="152280"/>
            <a:ext cx="7772400" cy="612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INC 653 standar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/>
          </p:nvPr>
        </p:nvSpPr>
        <p:spPr>
          <a:xfrm>
            <a:off x="250560" y="765000"/>
            <a:ext cx="8713800" cy="1440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Describes the APEX (APplication EXecutive) services (communication, synchronization, process/time management…) based on the IMA approac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1908000" y="2349360"/>
            <a:ext cx="5410440" cy="395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1A78F-5BAB-4740-B5AF-E764599E9574}" type="slidenum">
              <a:t>2</a:t>
            </a:fld>
          </a:p>
        </p:txBody>
      </p:sp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324000" y="189000"/>
            <a:ext cx="7918200" cy="74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Modeling of partitions within Polychro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1"/>
          <p:cNvSpPr>
            <a:spLocks noGrp="1"/>
          </p:cNvSpPr>
          <p:nvPr>
            <p:ph/>
          </p:nvPr>
        </p:nvSpPr>
        <p:spPr>
          <a:xfrm>
            <a:off x="684360" y="1066680"/>
            <a:ext cx="7991280" cy="1354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SIGNAL executive model of a partition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00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5050"/>
                </a:solidFill>
                <a:latin typeface="Times New Roman"/>
              </a:rPr>
              <a:t>services mod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3399ff"/>
                </a:solidFill>
                <a:latin typeface="Times New Roman"/>
              </a:rPr>
              <a:t>process mode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+ </a:t>
            </a:r>
            <a:r>
              <a:rPr b="0" lang="en-US" sz="2400" spc="-1" strike="noStrike">
                <a:solidFill>
                  <a:srgbClr val="00cc00"/>
                </a:solidFill>
                <a:latin typeface="Times New Roman"/>
              </a:rPr>
              <a:t>partition level OS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484360" y="2997360"/>
            <a:ext cx="3681360" cy="25984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B34DC-8275-46FD-A333-EAC2F3AD33BA}" type="slidenum">
              <a:t>3</a:t>
            </a:fld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xample: partition ON_FLIGH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1295280" y="1752480"/>
            <a:ext cx="6782040" cy="395136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767AF-A46C-4E80-8723-1ACF11F4DEF0}" type="slidenum">
              <a:t>4</a:t>
            </a:fld>
          </a:p>
        </p:txBody>
      </p:sp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ecff"/>
            </a:gs>
            <a:gs pos="100000">
              <a:srgbClr val="ffffff"/>
            </a:gs>
          </a:gsLst>
          <a:lin ang="108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pplication to embedded implementation of avionics simulator compon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684360" y="1341360"/>
            <a:ext cx="7488000" cy="1008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cccc"/>
              </a:buClr>
              <a:buSzPct val="75000"/>
              <a:buFont typeface="Monotype Sort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Times New Roman"/>
              </a:rPr>
              <a:t>Serializing real-time JAVA applications in SIGNAL with th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Times New Roman"/>
              </a:rPr>
              <a:t>ARINC AP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2057400" y="2590920"/>
            <a:ext cx="1447920" cy="990360"/>
          </a:xfrm>
          <a:prstGeom prst="rect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al-time JAV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untime 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057400" y="4114800"/>
            <a:ext cx="1447920" cy="1219320"/>
          </a:xfrm>
          <a:prstGeom prst="rect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wrappers o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the ARINC AP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of signa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809880" y="2590920"/>
            <a:ext cx="3581640" cy="990360"/>
          </a:xfrm>
          <a:prstGeom prst="rect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995640" y="2708280"/>
            <a:ext cx="3276720" cy="304920"/>
          </a:xfrm>
          <a:prstGeom prst="rect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threads initializa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638680" y="3048120"/>
            <a:ext cx="1600200" cy="380880"/>
          </a:xfrm>
          <a:prstGeom prst="rect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al-time th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962520" y="3048120"/>
            <a:ext cx="1600200" cy="380880"/>
          </a:xfrm>
          <a:prstGeom prst="rect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real-time threa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09880" y="4114800"/>
            <a:ext cx="3581640" cy="1219320"/>
          </a:xfrm>
          <a:prstGeom prst="rect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962520" y="4191120"/>
            <a:ext cx="3276360" cy="304560"/>
          </a:xfrm>
          <a:prstGeom prst="rect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instances of ARINC cla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3962520" y="4572000"/>
            <a:ext cx="3276360" cy="685800"/>
          </a:xfrm>
          <a:prstGeom prst="rect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7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4114800" y="4876920"/>
            <a:ext cx="1371600" cy="304560"/>
          </a:xfrm>
          <a:prstGeom prst="rect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ARINC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5715000" y="4876920"/>
            <a:ext cx="1371600" cy="304560"/>
          </a:xfrm>
          <a:prstGeom prst="rect">
            <a:avLst/>
          </a:prstGeom>
          <a:solidFill>
            <a:srgbClr val="6699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ARINC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4803840" y="4572000"/>
            <a:ext cx="1550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RINC parti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743200" y="3581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562720" y="3581280"/>
            <a:ext cx="0" cy="53352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2729880" y="3643200"/>
            <a:ext cx="688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5550840" y="3643200"/>
            <a:ext cx="86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translat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3B50B-00A0-4469-99CE-64A29C236BCD}" type="slidenum">
              <a:t>5</a:t>
            </a:fld>
          </a:p>
        </p:txBody>
      </p:sp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5-06-02T22:16:36Z</dcterms:created>
  <dc:creator>Irisa-RENNES</dc:creator>
  <dc:description/>
  <dc:language>en-US</dc:language>
  <cp:lastModifiedBy>lbesnard</cp:lastModifiedBy>
  <cp:lastPrinted>2000-11-30T10:20:40Z</cp:lastPrinted>
  <dcterms:modified xsi:type="dcterms:W3CDTF">2007-04-24T07:06:27Z</dcterms:modified>
  <cp:revision>92</cp:revision>
  <dc:subject/>
  <dc:title>Formation</dc:title>
</cp:coreProperties>
</file>