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4687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7019F-3C16-4564-9A42-70F3AD2B15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1360" y="1998720"/>
            <a:ext cx="7721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1360" y="4148280"/>
            <a:ext cx="7721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0928-8DFF-4544-82E9-E0BB856B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1360" y="199872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9872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1360" y="414828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4828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1D1D-916D-4743-809A-0C5DC03A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1360" y="199872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99872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3160" y="199872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1360" y="414828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14828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3160" y="414828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4D310-9D67-4516-897F-BB6BB8D799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1360" y="199872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0C30-7232-4433-AB1A-299B383E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1360" y="199872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531EF-8C6D-4316-AEA0-FA97E936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1360" y="1998720"/>
            <a:ext cx="376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98720"/>
            <a:ext cx="376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7000-4C13-4EFA-8D4A-0ADEAF17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D9A82-E6DF-4451-9393-F5BAFB73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1360" y="609120"/>
            <a:ext cx="772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C25B8-77CD-4A84-9456-54E3DB4B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1360" y="199872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98720"/>
            <a:ext cx="376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1360" y="414828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F1B69-8BA7-408C-BF9E-02E60167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1360" y="1998720"/>
            <a:ext cx="376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9872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4828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55C6-5F8C-480E-A1C8-7A4EDF4E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1360" y="199872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9872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1360" y="4148280"/>
            <a:ext cx="7721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B582-70F7-40ED-9809-DABA8A81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0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1360" y="6473880"/>
            <a:ext cx="8828280" cy="76320"/>
          </a:xfrm>
          <a:prstGeom prst="rect">
            <a:avLst/>
          </a:prstGeom>
          <a:gradFill rotWithShape="0">
            <a:gsLst>
              <a:gs pos="0">
                <a:srgbClr val="636395"/>
              </a:gs>
              <a:gs pos="50000">
                <a:srgbClr val="fefefe"/>
              </a:gs>
              <a:gs pos="100000">
                <a:srgbClr val="6363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11360" y="199872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8584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4"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5"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6"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5A3E-7496-4F78-82E8-831F62028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0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5640" y="2619360"/>
            <a:ext cx="2386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4640"/>
            <a:ext cx="896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afd00"/>
                </a:solidFill>
                <a:latin typeface="Arial"/>
              </a:rPr>
              <a:t>Hierarchical grap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2000" y="674640"/>
            <a:ext cx="2386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70440" y="2637000"/>
            <a:ext cx="30168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60600" y="3645000"/>
            <a:ext cx="30024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64120" y="3645000"/>
            <a:ext cx="29988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462120" y="3068640"/>
            <a:ext cx="299880" cy="5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3960" y="3139920"/>
            <a:ext cx="301680" cy="432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059280" y="4076640"/>
            <a:ext cx="303120" cy="576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62360" y="3860640"/>
            <a:ext cx="30168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7200" y="2203560"/>
            <a:ext cx="1005120" cy="433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762360" y="1844640"/>
            <a:ext cx="1255680" cy="1224000"/>
            <a:chOff x="3762360" y="1844640"/>
            <a:chExt cx="1255680" cy="1224000"/>
          </a:xfrm>
        </p:grpSpPr>
        <p:sp>
          <p:nvSpPr>
            <p:cNvPr id="53" name=""/>
            <p:cNvSpPr/>
            <p:nvPr/>
          </p:nvSpPr>
          <p:spPr>
            <a:xfrm>
              <a:off x="4567320" y="1844640"/>
              <a:ext cx="299880" cy="3603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62360" y="2708280"/>
              <a:ext cx="301680" cy="3603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16360" y="2708280"/>
              <a:ext cx="301680" cy="3603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064040" y="2131920"/>
              <a:ext cx="503280" cy="50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68920" y="2203560"/>
              <a:ext cx="982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64120" y="2852640"/>
              <a:ext cx="403200" cy="18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72360" y="1844640"/>
            <a:ext cx="1655640" cy="1008000"/>
          </a:xfrm>
          <a:prstGeom prst="wedgeEllipseCallout">
            <a:avLst>
              <a:gd name="adj1" fmla="val -61504"/>
              <a:gd name="adj2" fmla="val 39449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3429000"/>
            <a:ext cx="1368360" cy="1079640"/>
          </a:xfrm>
          <a:prstGeom prst="wedgeEllipseCallout">
            <a:avLst>
              <a:gd name="adj1" fmla="val -105685"/>
              <a:gd name="adj2" fmla="val -21763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484360" y="2707560"/>
            <a:ext cx="719280" cy="360360"/>
          </a:xfrm>
          <a:prstGeom prst="wedgeEllipseCallout">
            <a:avLst>
              <a:gd name="adj1" fmla="val -122629"/>
              <a:gd name="adj2" fmla="val -4185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123280" y="3860640"/>
            <a:ext cx="792360" cy="433440"/>
          </a:xfrm>
          <a:prstGeom prst="wedgeEllipseCallout">
            <a:avLst>
              <a:gd name="adj1" fmla="val -105314"/>
              <a:gd name="adj2" fmla="val -45240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1268280"/>
            <a:ext cx="1079640" cy="360360"/>
          </a:xfrm>
          <a:prstGeom prst="wedgeEllipseCallout">
            <a:avLst>
              <a:gd name="adj1" fmla="val -94851"/>
              <a:gd name="adj2" fmla="val 141189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1125360"/>
            <a:ext cx="0" cy="648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5084640"/>
            <a:ext cx="82818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Hierarchy of clock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A sub-graph  to each 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202920" y="6165000"/>
            <a:ext cx="718920" cy="360360"/>
          </a:xfrm>
          <a:prstGeom prst="wedgeEllipseCallout">
            <a:avLst>
              <a:gd name="adj1" fmla="val 248231"/>
              <a:gd name="adj2" fmla="val 76870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411280" y="5084640"/>
            <a:ext cx="863280" cy="505080"/>
            <a:chOff x="2411280" y="5084640"/>
            <a:chExt cx="863280" cy="505080"/>
          </a:xfrm>
        </p:grpSpPr>
        <p:sp>
          <p:nvSpPr>
            <p:cNvPr id="68" name=""/>
            <p:cNvSpPr/>
            <p:nvPr/>
          </p:nvSpPr>
          <p:spPr>
            <a:xfrm>
              <a:off x="2964960" y="5084640"/>
              <a:ext cx="206280" cy="1486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11280" y="5441040"/>
              <a:ext cx="207360" cy="1486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67200" y="5441040"/>
              <a:ext cx="207360" cy="1486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618280" y="5203080"/>
              <a:ext cx="345960" cy="20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03560" y="5232600"/>
              <a:ext cx="67320" cy="17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87400" y="5500440"/>
              <a:ext cx="277200" cy="7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D55DD-E211-4D34-A713-5C026FA0820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0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4360" y="4869000"/>
            <a:ext cx="784836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ub-graph : a set of node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odes : Equation, Memorization, …, Arr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Dependenc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92720" y="5661000"/>
            <a:ext cx="181080" cy="1494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43280" y="6237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023360" y="4858920"/>
            <a:ext cx="953280" cy="686160"/>
            <a:chOff x="4023360" y="4858920"/>
            <a:chExt cx="953280" cy="686160"/>
          </a:xfrm>
        </p:grpSpPr>
        <p:sp>
          <p:nvSpPr>
            <p:cNvPr id="78" name=""/>
            <p:cNvSpPr/>
            <p:nvPr/>
          </p:nvSpPr>
          <p:spPr>
            <a:xfrm flipH="1" flipV="1" rot="10092000">
              <a:off x="4067280" y="4941360"/>
              <a:ext cx="865080" cy="520560"/>
            </a:xfrm>
            <a:prstGeom prst="wedgeEllipseCallout">
              <a:avLst>
                <a:gd name="adj1" fmla="val -91652"/>
                <a:gd name="adj2" fmla="val -17685"/>
              </a:avLst>
            </a:prstGeom>
            <a:solidFill>
              <a:srgbClr val="3365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0092000">
              <a:off x="4610520" y="5127120"/>
              <a:ext cx="181080" cy="149400"/>
            </a:xfrm>
            <a:prstGeom prst="ellipse">
              <a:avLst/>
            </a:prstGeom>
            <a:solidFill>
              <a:srgbClr val="99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0092000">
              <a:off x="4272480" y="5270760"/>
              <a:ext cx="181080" cy="149040"/>
            </a:xfrm>
            <a:prstGeom prst="ellipse">
              <a:avLst/>
            </a:prstGeom>
            <a:solidFill>
              <a:srgbClr val="99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0092000">
              <a:off x="4439520" y="5015160"/>
              <a:ext cx="180720" cy="149400"/>
            </a:xfrm>
            <a:prstGeom prst="ellipse">
              <a:avLst/>
            </a:prstGeom>
            <a:solidFill>
              <a:srgbClr val="99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245640" y="2619360"/>
            <a:ext cx="2386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2000" y="674640"/>
            <a:ext cx="2386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67320" y="1844640"/>
            <a:ext cx="29988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62360" y="2708280"/>
            <a:ext cx="30168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2708280"/>
            <a:ext cx="30168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70440" y="2637000"/>
            <a:ext cx="30168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60600" y="3645000"/>
            <a:ext cx="30024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64120" y="3645000"/>
            <a:ext cx="29988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064040" y="2131920"/>
            <a:ext cx="503280" cy="505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462120" y="3068640"/>
            <a:ext cx="299880" cy="5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3960" y="3139920"/>
            <a:ext cx="301680" cy="432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059280" y="4076640"/>
            <a:ext cx="303120" cy="576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62360" y="3860640"/>
            <a:ext cx="30168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67200" y="2203560"/>
            <a:ext cx="1005120" cy="433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68920" y="2203560"/>
            <a:ext cx="98280" cy="433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64120" y="2852640"/>
            <a:ext cx="40320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72360" y="1844640"/>
            <a:ext cx="1655640" cy="1008000"/>
          </a:xfrm>
          <a:prstGeom prst="wedgeEllipseCallout">
            <a:avLst>
              <a:gd name="adj1" fmla="val -61504"/>
              <a:gd name="adj2" fmla="val 39449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76720" y="3429000"/>
            <a:ext cx="1368360" cy="1079640"/>
          </a:xfrm>
          <a:prstGeom prst="wedgeEllipseCallout">
            <a:avLst>
              <a:gd name="adj1" fmla="val -105685"/>
              <a:gd name="adj2" fmla="val -21763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484360" y="2707560"/>
            <a:ext cx="719280" cy="360360"/>
          </a:xfrm>
          <a:prstGeom prst="wedgeEllipseCallout">
            <a:avLst>
              <a:gd name="adj1" fmla="val -122629"/>
              <a:gd name="adj2" fmla="val -4185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23280" y="3860640"/>
            <a:ext cx="792360" cy="433440"/>
          </a:xfrm>
          <a:prstGeom prst="wedgeEllipseCallout">
            <a:avLst>
              <a:gd name="adj1" fmla="val -105314"/>
              <a:gd name="adj2" fmla="val -45240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1268280"/>
            <a:ext cx="1079640" cy="360360"/>
          </a:xfrm>
          <a:prstGeom prst="wedgeEllipseCallout">
            <a:avLst>
              <a:gd name="adj1" fmla="val -94851"/>
              <a:gd name="adj2" fmla="val 141189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125360"/>
            <a:ext cx="0" cy="648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3645000"/>
            <a:ext cx="216000" cy="21564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08720" y="2565360"/>
            <a:ext cx="216000" cy="2160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4076640"/>
            <a:ext cx="216000" cy="2160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6000" y="4149720"/>
            <a:ext cx="216000" cy="2160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04000" y="2060640"/>
            <a:ext cx="216000" cy="2160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421000"/>
            <a:ext cx="215640" cy="2160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2133720"/>
            <a:ext cx="216000" cy="21564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4005360"/>
            <a:ext cx="144720" cy="14436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2852640"/>
            <a:ext cx="144720" cy="14472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1413000"/>
            <a:ext cx="144360" cy="14436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1413000"/>
            <a:ext cx="144720" cy="14436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6000" y="1341360"/>
            <a:ext cx="144360" cy="14472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4076640"/>
            <a:ext cx="144360" cy="14436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3860640"/>
            <a:ext cx="71280" cy="21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12000" y="2781000"/>
            <a:ext cx="129672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484000" y="2997360"/>
            <a:ext cx="358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2205000"/>
            <a:ext cx="431640" cy="7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1484280"/>
            <a:ext cx="865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04640"/>
            <a:ext cx="82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afd00"/>
                </a:solidFill>
                <a:latin typeface="Arial"/>
              </a:rPr>
              <a:t>Hierarchical grap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A2AE1-0C89-4D62-B522-F34314E4DDB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0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245640" y="2619360"/>
            <a:ext cx="2386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2000" y="674640"/>
            <a:ext cx="2386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67320" y="1844640"/>
            <a:ext cx="29988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62360" y="2708280"/>
            <a:ext cx="30168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2708280"/>
            <a:ext cx="30168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0440" y="2637000"/>
            <a:ext cx="30168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60600" y="3645000"/>
            <a:ext cx="30024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64120" y="3645000"/>
            <a:ext cx="29988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064040" y="2131920"/>
            <a:ext cx="503280" cy="505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462120" y="3068640"/>
            <a:ext cx="299880" cy="5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960" y="3139920"/>
            <a:ext cx="301680" cy="432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059280" y="4076640"/>
            <a:ext cx="303120" cy="576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62360" y="3860640"/>
            <a:ext cx="30168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67200" y="2203560"/>
            <a:ext cx="1005120" cy="433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68920" y="2203560"/>
            <a:ext cx="98280" cy="433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64120" y="2852640"/>
            <a:ext cx="40320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72360" y="1844640"/>
            <a:ext cx="1655640" cy="1008000"/>
          </a:xfrm>
          <a:prstGeom prst="wedgeEllipseCallout">
            <a:avLst>
              <a:gd name="adj1" fmla="val -61504"/>
              <a:gd name="adj2" fmla="val 39449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3429000"/>
            <a:ext cx="1368360" cy="1079640"/>
          </a:xfrm>
          <a:prstGeom prst="wedgeEllipseCallout">
            <a:avLst>
              <a:gd name="adj1" fmla="val -105685"/>
              <a:gd name="adj2" fmla="val -21763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484360" y="2707560"/>
            <a:ext cx="719280" cy="360360"/>
          </a:xfrm>
          <a:prstGeom prst="wedgeEllipseCallout">
            <a:avLst>
              <a:gd name="adj1" fmla="val -122629"/>
              <a:gd name="adj2" fmla="val -4185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123280" y="3860640"/>
            <a:ext cx="792360" cy="433440"/>
          </a:xfrm>
          <a:prstGeom prst="wedgeEllipseCallout">
            <a:avLst>
              <a:gd name="adj1" fmla="val -105314"/>
              <a:gd name="adj2" fmla="val -45240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1268280"/>
            <a:ext cx="1079640" cy="360360"/>
          </a:xfrm>
          <a:prstGeom prst="wedgeEllipseCallout">
            <a:avLst>
              <a:gd name="adj1" fmla="val -94851"/>
              <a:gd name="adj2" fmla="val 141189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16360" y="1125360"/>
            <a:ext cx="0" cy="648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64000" y="3645000"/>
            <a:ext cx="216000" cy="21564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2565360"/>
            <a:ext cx="216000" cy="2160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64000" y="4076640"/>
            <a:ext cx="216000" cy="2160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4149720"/>
            <a:ext cx="216000" cy="2160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04000" y="2060640"/>
            <a:ext cx="216000" cy="2160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32720" y="2421000"/>
            <a:ext cx="215640" cy="2160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2133720"/>
            <a:ext cx="216000" cy="21564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11280" y="4005360"/>
            <a:ext cx="144720" cy="14436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2852640"/>
            <a:ext cx="144720" cy="14472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08720" y="1413000"/>
            <a:ext cx="144360" cy="14436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84720" y="1413000"/>
            <a:ext cx="144720" cy="14436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1341360"/>
            <a:ext cx="144360" cy="14472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4076640"/>
            <a:ext cx="144360" cy="14436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3860640"/>
            <a:ext cx="71280" cy="21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012000" y="2781000"/>
            <a:ext cx="129672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484000" y="2997360"/>
            <a:ext cx="358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20000" y="2205000"/>
            <a:ext cx="431640" cy="7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484280"/>
            <a:ext cx="865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429000"/>
            <a:ext cx="936720" cy="2872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? … !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35640" y="4508640"/>
            <a:ext cx="792000" cy="2872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? … !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2492280"/>
            <a:ext cx="936360" cy="2872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? … !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64000" y="3429000"/>
            <a:ext cx="792360" cy="2872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? … !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3360"/>
            <a:ext cx="896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afd00"/>
                </a:solidFill>
                <a:latin typeface="Arial"/>
              </a:rPr>
              <a:t>Hierarchical grap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5445000"/>
            <a:ext cx="7272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To each structure : an interface (parameters, inputs, outpu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5445000"/>
            <a:ext cx="863640" cy="2876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? … !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C519B-D08C-4054-B0D5-61C0CFD197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0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Graph Travellings</a:t>
            </a:r>
            <a:r>
              <a:rPr b="1" lang="fr-FR" sz="36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11360" y="1998720"/>
            <a:ext cx="8108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afd00"/>
                </a:solidFill>
                <a:latin typeface="Times New Roman"/>
              </a:rPr>
              <a:t>Travelling the hierarchy : (up-down left righ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gnal Source restit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afd00"/>
                </a:solidFill>
                <a:latin typeface="Times New Roman"/>
              </a:rPr>
              <a:t>Travelling taking account the dependen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de Gener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E698-7542-4F99-91C9-E0F8267A0E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6T12:07:05Z</dcterms:created>
  <dc:creator/>
  <dc:description>Maj 26/03/97 Dem B. Larrouturoudia 24 : Origin 2000 et dia 14 : 200 proj europŽens</dc:description>
  <cp:keywords/>
  <dc:language>en-US</dc:language>
  <cp:lastModifiedBy>lbesnard</cp:lastModifiedBy>
  <cp:lastPrinted>2002-09-18T14:46:33Z</cp:lastPrinted>
  <dcterms:modified xsi:type="dcterms:W3CDTF">2005-11-23T09:49:21Z</dcterms:modified>
  <cp:revision>355</cp:revision>
  <dc:subject>Diapo modele. INRIA</dc:subject>
  <dc:title> Institut National de Recherche  en Informatique et en Automatique  </dc:title>
</cp:coreProperties>
</file>