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5E2-0D53-40D8-8FB5-90BB5B2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439-54D8-409F-BAA9-4B04162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EBD-3883-432A-8299-11DE5286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BF5-C5E5-4D60-84E9-C9D8D2EB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C3F-46EC-437D-8971-BC8A7CF0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BD35-6CA5-431B-8BBF-DE40EAB9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AA88-ADBE-4877-A99E-63D2A4EA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975-A063-4DA4-AE89-85AC60B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4E1-D8A3-4A15-B4DB-D2ABB66B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4C5-9139-4426-973F-12A54774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84EF-7C77-4856-8B55-0B1E7CE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424-CBB8-4B94-9FE5-8EA7D18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42B-4F2E-4FA1-9D09-476788E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366-BDB6-4E92-805B-8236AE1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46D1-CA30-41D8-9F23-EF171DF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30E-2A0D-46B9-89A5-D321A8C4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2D13-7ACF-4BD4-A3CD-9F70F7D4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7AA-8170-4718-A713-8D9AB400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BEB-A130-4F91-9745-1BB6FE2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E8F-59FB-4560-883C-E3D9EDE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943-43E0-46E9-92C7-C47CC63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57-C71E-422D-9E75-D5B0F8D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D79-B940-471E-BD94-187C3A2C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803-08CF-49D8-BD67-0F85350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AEBD-E530-44CF-B3EE-F53B6EBDF5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26EF-48A8-4284-BB55-43AD1335B6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rphism :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: using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stBib library :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st values (targ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software dataflow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architectur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ng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formance evaluation :  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104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1-12-05T10:14:12Z</cp:lastPrinted>
  <dcterms:modified xsi:type="dcterms:W3CDTF">2004-06-28T13:35:41Z</dcterms:modified>
  <cp:revision>190</cp:revision>
  <dc:subject/>
  <dc:title>Formation</dc:title>
</cp:coreProperties>
</file>