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A23-FA06-4CD4-AACE-21B64AA6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C3A-8572-4C3C-9E36-F4031CF8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73F-00C3-4E11-B32A-6DFCBC2F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D21-3366-4621-9C19-9EEA6D96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0FC-9FD5-43B3-A8CF-DDB4982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D9B-21AE-4045-8F57-B2EE678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6576-C576-4039-B6C7-B9519E45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043C-6CFD-4754-AA99-702F791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330-9489-449D-BC87-641522E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97F-32D5-4725-9EC5-128DBF1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318-0F71-40FC-893A-91A813C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B08-BEAA-4A26-A115-9EFDA9C6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BAF2-CD1A-409F-A290-9C2A98E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111-E039-487E-8C32-621A079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2528-C778-450D-A408-E18E9A1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069-5645-45D9-91C1-B7583556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3860-DCD0-4097-BF8E-A16B30E4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642-DDD1-4DF8-B56B-F2765AF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EFC-2BF5-425F-96A0-565AEF6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F41-D865-4D80-9447-AB21ABC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B9E-6F52-4F5C-9A1E-FFFEC21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56C-DC6B-4F48-AB09-5FA0658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960-5E4F-4C7D-ADA7-31221EB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662-D3AF-4B39-9F34-8E7B865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647960" y="62481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2D37-BA39-4B59-92DF-F8E8CA7C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-145098" r="0" b="0"/>
          <a:stretch/>
        </p:blipFill>
        <p:spPr>
          <a:xfrm>
            <a:off x="3735360" y="6400800"/>
            <a:ext cx="8571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D403-1631-4A8C-8870-89FD57EA2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use of Polychron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of Modular Avionics Archite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d on ARINC 653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grated Modular Avionics architectures (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3337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DD6-12FD-4D91-B159-19832EAF19FA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NC 653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cribes the APEX (APplication EXecutive) services (communication, synchronization, process/time management…) based on the IMA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410440" cy="39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019-F131-442E-B37E-2A73B2253352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7918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ing of partitions within Polychr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66680"/>
            <a:ext cx="79912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GNAL executive model of a par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rvice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ces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tition level O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81360" cy="259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C7D-C92F-4084-A9E2-ADB16EEF689A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partition ON_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4EA-2946-43A1-A53E-C1B7666353CB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to embedded implementation of avionics simulat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rializing real-time JAVA applications in SIGNAL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INC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590920"/>
            <a:ext cx="144792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tim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114800"/>
            <a:ext cx="144792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rapper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ARINC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590920"/>
            <a:ext cx="358164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2708280"/>
            <a:ext cx="3276720" cy="304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reads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114800"/>
            <a:ext cx="358164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91120"/>
            <a:ext cx="327636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ces of ARINC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572000"/>
            <a:ext cx="3276360" cy="6858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45720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9880" y="3643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0840" y="364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CE6-9FBD-4AD3-A207-9D41E7A6F843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0-11-30T10:20:40Z</cp:lastPrinted>
  <dcterms:modified xsi:type="dcterms:W3CDTF">2007-04-24T07:06:27Z</dcterms:modified>
  <cp:revision>92</cp:revision>
  <dc:subject/>
  <dc:title>Formation</dc:title>
</cp:coreProperties>
</file>