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CA5B-FD50-4A34-B55E-9A58160B23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1360" y="414828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DD9F-1A75-467A-BA03-ADCC2A92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3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3A8F-B347-4943-B1E4-59A92ABE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99872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3160" y="199872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1360" y="41482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1482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3160" y="4148280"/>
            <a:ext cx="248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C821-FBCA-483E-A746-00936C5ECE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1360" y="199872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E023-10D6-45D7-BD9B-5C750B9D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A13D-C9E8-4621-B107-1F6F4B45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CBF4-D6FD-415D-A5A0-692540D6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E31A-BA2B-42FE-BC6D-9BB1274D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1360" y="609120"/>
            <a:ext cx="772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98DA-9FF0-4FFC-BEC5-D32F473B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13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B0AA-F761-4465-BA86-5D325873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4828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7596-63F9-476C-8D7C-BBD1694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13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98720"/>
            <a:ext cx="376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1360" y="4148280"/>
            <a:ext cx="7721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1663-98D0-4233-83F2-DBC0FB93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6473880"/>
            <a:ext cx="8828280" cy="76320"/>
          </a:xfrm>
          <a:prstGeom prst="rect">
            <a:avLst/>
          </a:prstGeom>
          <a:gradFill rotWithShape="0">
            <a:gsLst>
              <a:gs pos="0">
                <a:srgbClr val="636395"/>
              </a:gs>
              <a:gs pos="50000">
                <a:srgbClr val="fefefe"/>
              </a:gs>
              <a:gs pos="100000">
                <a:srgbClr val="6363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1360" y="199872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4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5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6"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E6C-143D-4547-A87B-32AFE6768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11280" y="1628640"/>
            <a:ext cx="4969080" cy="2880000"/>
            <a:chOff x="2411280" y="1628640"/>
            <a:chExt cx="4969080" cy="2880000"/>
          </a:xfrm>
        </p:grpSpPr>
        <p:sp>
          <p:nvSpPr>
            <p:cNvPr id="42" name=""/>
            <p:cNvSpPr/>
            <p:nvPr/>
          </p:nvSpPr>
          <p:spPr>
            <a:xfrm>
              <a:off x="6278040" y="2421000"/>
              <a:ext cx="238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11280" y="1628640"/>
              <a:ext cx="4681800" cy="288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48000" y="2997360"/>
              <a:ext cx="865080" cy="86328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Abstrac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Tre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932360" y="3141720"/>
              <a:ext cx="1655280" cy="431640"/>
              <a:chOff x="4932360" y="3141720"/>
              <a:chExt cx="1655280" cy="431640"/>
            </a:xfrm>
          </p:grpSpPr>
          <p:sp>
            <p:nvSpPr>
              <p:cNvPr id="46" name=""/>
              <p:cNvSpPr/>
              <p:nvPr/>
            </p:nvSpPr>
            <p:spPr>
              <a:xfrm rot="5400000">
                <a:off x="5544000" y="2529720"/>
                <a:ext cx="431640" cy="1655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60800" y="3147840"/>
                <a:ext cx="148968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SyndexPrint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2556720" y="1844640"/>
              <a:ext cx="4247640" cy="720360"/>
              <a:chOff x="2556720" y="1844640"/>
              <a:chExt cx="4247640" cy="72036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2556720" y="1844640"/>
                <a:ext cx="1799280" cy="720360"/>
                <a:chOff x="2556720" y="1844640"/>
                <a:chExt cx="1799280" cy="720360"/>
              </a:xfrm>
            </p:grpSpPr>
            <p:sp>
              <p:nvSpPr>
                <p:cNvPr id="50" name=""/>
                <p:cNvSpPr/>
                <p:nvPr/>
              </p:nvSpPr>
              <p:spPr>
                <a:xfrm rot="5400000">
                  <a:off x="3098520" y="1307160"/>
                  <a:ext cx="720360" cy="1794600"/>
                </a:xfrm>
                <a:prstGeom prst="rect">
                  <a:avLst/>
                </a:prstGeom>
                <a:solidFill>
                  <a:srgbClr val="99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556720" y="1844640"/>
                  <a:ext cx="171900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Graph2synde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4356360" y="1916280"/>
                <a:ext cx="2448000" cy="502560"/>
                <a:chOff x="4356360" y="1916280"/>
                <a:chExt cx="2448000" cy="502560"/>
              </a:xfrm>
            </p:grpSpPr>
            <p:sp>
              <p:nvSpPr>
                <p:cNvPr id="53" name=""/>
                <p:cNvSpPr/>
                <p:nvPr/>
              </p:nvSpPr>
              <p:spPr>
                <a:xfrm rot="5400000">
                  <a:off x="5247360" y="1024920"/>
                  <a:ext cx="502560" cy="2284920"/>
                </a:xfrm>
                <a:prstGeom prst="rect">
                  <a:avLst/>
                </a:prstGeom>
                <a:solidFill>
                  <a:srgbClr val="99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424400" y="2004480"/>
                  <a:ext cx="23799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SyndexTreeInterf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564000" y="2565360"/>
              <a:ext cx="484200" cy="43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5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329720" y="3022920"/>
              <a:ext cx="484200" cy="720720"/>
            </a:xfrm>
            <a:prstGeom prst="downArrow">
              <a:avLst>
                <a:gd name="adj1" fmla="val 50000"/>
                <a:gd name="adj2" fmla="val 37212"/>
              </a:avLst>
            </a:prstGeom>
            <a:solidFill>
              <a:srgbClr val="3365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6804720" y="2924640"/>
              <a:ext cx="358560" cy="792360"/>
            </a:xfrm>
            <a:prstGeom prst="downArrow">
              <a:avLst>
                <a:gd name="adj1" fmla="val 50000"/>
                <a:gd name="adj2" fmla="val 55246"/>
              </a:avLst>
            </a:prstGeom>
            <a:solidFill>
              <a:srgbClr val="3365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308720" y="2708280"/>
            <a:ext cx="1695600" cy="115092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ynDE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ext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73240" y="1341360"/>
            <a:ext cx="1251000" cy="4751640"/>
            <a:chOff x="1173240" y="1341360"/>
            <a:chExt cx="1251000" cy="4751640"/>
          </a:xfrm>
        </p:grpSpPr>
        <p:sp>
          <p:nvSpPr>
            <p:cNvPr id="60" name=""/>
            <p:cNvSpPr/>
            <p:nvPr/>
          </p:nvSpPr>
          <p:spPr>
            <a:xfrm rot="16200000">
              <a:off x="1762200" y="2909880"/>
              <a:ext cx="565200" cy="758880"/>
            </a:xfrm>
            <a:prstGeom prst="downArrow">
              <a:avLst>
                <a:gd name="adj1" fmla="val 50000"/>
                <a:gd name="adj2" fmla="val 3356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73240" y="1341360"/>
              <a:ext cx="662040" cy="4751640"/>
            </a:xfrm>
            <a:prstGeom prst="upDownArrow">
              <a:avLst>
                <a:gd name="adj1" fmla="val 50130"/>
                <a:gd name="adj2" fmla="val 74032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1815480" y="4889880"/>
              <a:ext cx="485640" cy="731880"/>
            </a:xfrm>
            <a:prstGeom prst="upDownArrow">
              <a:avLst>
                <a:gd name="adj1" fmla="val 60139"/>
                <a:gd name="adj2" fmla="val 36790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84360" y="4869000"/>
            <a:ext cx="4249800" cy="1296720"/>
          </a:xfrm>
          <a:prstGeom prst="rect">
            <a:avLst/>
          </a:prstGeom>
          <a:solidFill>
            <a:srgbClr val="993366">
              <a:alpha val="6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GraphPartialDefinitionsM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Graph2Ker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GraphSpliting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84280"/>
            <a:ext cx="1512720" cy="1008000"/>
          </a:xfrm>
          <a:prstGeom prst="flowChartMagneticTap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ierarch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33360"/>
            <a:ext cx="896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Signal/SynDEx  translator</a:t>
            </a: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: imple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573360"/>
            <a:ext cx="83534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or each clock of the hierarchy (reduced to one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nterface trans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ctivation 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or the sub-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afd00"/>
                </a:solidFill>
                <a:latin typeface="Times New Roman"/>
              </a:rPr>
              <a:t>First ste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: a SynDEx operator to each Signal operator (setting attribu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afd00"/>
                </a:solidFill>
                <a:latin typeface="Times New Roman"/>
              </a:rPr>
              <a:t>Second ste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: Connection of SynDex operators (using attributes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3933720"/>
            <a:ext cx="8353440" cy="237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2000" y="67464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3360"/>
            <a:ext cx="896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Signal/SynDEx  translator</a:t>
            </a: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: algorith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74000" y="276372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95680" y="1989000"/>
            <a:ext cx="2998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90720" y="285264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4720" y="285264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98800" y="2781360"/>
            <a:ext cx="30168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192400" y="2276640"/>
            <a:ext cx="50328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95560" y="2347920"/>
            <a:ext cx="1005120" cy="43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7280" y="2347920"/>
            <a:ext cx="98280" cy="43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92480" y="2997360"/>
            <a:ext cx="40320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1989000"/>
            <a:ext cx="1655640" cy="1008360"/>
          </a:xfrm>
          <a:prstGeom prst="wedgeEllipseCallout">
            <a:avLst>
              <a:gd name="adj1" fmla="val -61504"/>
              <a:gd name="adj2" fmla="val 3944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23640" y="2564640"/>
            <a:ext cx="1008000" cy="647640"/>
          </a:xfrm>
          <a:prstGeom prst="wedgeEllipseCallout">
            <a:avLst>
              <a:gd name="adj1" fmla="val -101972"/>
              <a:gd name="adj2" fmla="val -2475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1413000"/>
            <a:ext cx="1079640" cy="360360"/>
          </a:xfrm>
          <a:prstGeom prst="wedgeEllipseCallout">
            <a:avLst>
              <a:gd name="adj1" fmla="val -94851"/>
              <a:gd name="adj2" fmla="val 141189"/>
            </a:avLst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7080" y="270972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220500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61080" y="2565360"/>
            <a:ext cx="21564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2278080"/>
            <a:ext cx="216000" cy="2160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997360"/>
            <a:ext cx="14472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7080" y="155736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3080" y="1557360"/>
            <a:ext cx="14472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148608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1280" y="2708280"/>
            <a:ext cx="360360" cy="1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2349360"/>
            <a:ext cx="43164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1628640"/>
            <a:ext cx="865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2565360"/>
            <a:ext cx="93672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1700280"/>
            <a:ext cx="93636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1701720"/>
            <a:ext cx="93672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 … 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78136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637000"/>
            <a:ext cx="144360" cy="1443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3645000"/>
            <a:ext cx="1224000" cy="288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algorith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4508640"/>
            <a:ext cx="1224000" cy="288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4076640"/>
            <a:ext cx="1224000" cy="2890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0000" y="5229360"/>
            <a:ext cx="1224000" cy="288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80360" y="5734080"/>
            <a:ext cx="1584360" cy="28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epend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1360" y="60912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2000" y="674640"/>
            <a:ext cx="238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360"/>
            <a:ext cx="896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Signal/SynDEx  translator</a:t>
            </a:r>
            <a:r>
              <a:rPr b="1" lang="fr-FR" sz="3600" spc="-1" strike="noStrike">
                <a:solidFill>
                  <a:srgbClr val="fafd00"/>
                </a:solidFill>
                <a:latin typeface="Arial"/>
              </a:rPr>
              <a:t>: SynDEx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341360"/>
            <a:ext cx="82087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Times New Roman"/>
              </a:rPr>
              <a:t>def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afd00"/>
                </a:solidFill>
                <a:latin typeface="Times New Roman"/>
              </a:rPr>
              <a:t>algorithm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CLK_bb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? float  b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? float  c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? bool  C_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! float  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Times New Roman"/>
              </a:rPr>
              <a:t>conditions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C_x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Times New Roman"/>
              </a:rPr>
              <a:t>referen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al_float/Arit_div&lt;1&gt; Arit_div_9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al_float/Arit_minus&lt;1&gt; Arit_minus_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Times New Roman"/>
              </a:rPr>
              <a:t>dependen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trong_precedence_data Arit_minus_5.o -&gt; 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trong_precedence_data cc-&gt; Arit_div_9.i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trong_precedence_data bb -&gt; Arit_div_9.i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trong_precedence_data Arit_div_9.o -&gt; Arit_minus_5.i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8:19:02Z</dcterms:created>
  <dc:creator>lbesnard</dc:creator>
  <dc:description/>
  <dc:language>en-US</dc:language>
  <cp:lastModifiedBy>lbesnard</cp:lastModifiedBy>
  <dcterms:modified xsi:type="dcterms:W3CDTF">2005-11-18T08:42:19Z</dcterms:modified>
  <cp:revision>9</cp:revision>
  <dc:subject/>
  <dc:title>Diapositive 1</dc:title>
</cp:coreProperties>
</file>