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EE5-670A-4423-8D53-CA5E6E08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222-C0F0-4D16-A11E-C165D752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1B2-0616-4269-8181-93D3AE46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F43-138C-47D1-9120-C477C159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423C-698A-41A2-A5E4-B7D2554B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EB03-2167-4C6B-8D91-AFA59732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CD66-8B00-492B-A670-E20789FE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AC35-0E24-40A7-B9AF-461A282E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0520-1F58-4113-8993-64F5341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5265-FC58-4D29-A3BE-E910B070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88B6-272B-474F-8B78-BBBFA4D5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E21-00EF-4734-9628-0494769B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4351-9964-4BE3-8EDE-F21171D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8306-DD58-481D-8F9C-7963B1C3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EAED-17BD-4454-BE9C-2121925C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445E-F62B-444F-8983-D3F3ADDB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8E22-6584-404B-BECD-9D297E41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B0B-464A-4354-AA21-20B7A6AE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E06-4320-43FD-960A-9A114022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180-2ECD-423F-8FEC-E08E248C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156-6793-4AAF-A587-936FA2A8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536-54F4-4892-A87A-71D7A124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FFD-CB27-460C-BB45-775BABBF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F42-E913-427C-9138-D56B14F2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315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9616-545E-49AA-96CF-1B88221E5C23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172200"/>
            <a:ext cx="1828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080" y="4876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F07C-3A1B-4778-AFA4-E1F6EB1B14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lum contrast="6000"/>
          </a:blip>
          <a:srcRect l="0" t="-145098" r="0" b="0"/>
          <a:stretch/>
        </p:blipFill>
        <p:spPr>
          <a:xfrm>
            <a:off x="7696080" y="-228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6A1E-619F-4E47-8C49-4359374AD2DE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15A8-0901-4BA1-B224-DE25142D9E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4560" y="2174760"/>
            <a:ext cx="63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ïc Besnard  - Thierry Gautier - Paul Le Guer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4640" y="3165480"/>
            <a:ext cx="251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0E044-79F3-48E3-9A33-692951695D07}" type="datetime3">
              <a:rPr lang="en-US"/>
              <a:t>July 31, 2026</a:t>
            </a:fld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ues’ examp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Hugues1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42000" cy="4140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31240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3526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5812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0384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419112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228600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E87E3-BA04-42F4-86E2-DE5EBE437611}" type="datetime3">
              <a:rPr lang="en-US"/>
              <a:t>July 31, 2026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9160" y="2022480"/>
            <a:ext cx="717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tion of a performance evaluation 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or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 optim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chrony : set of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FEA83-7901-45D1-AC60-1D8AC828954A}" type="datetime3">
              <a:rPr lang="en-US"/>
              <a:t>July 31, 2026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743200"/>
            <a:ext cx="152280" cy="2133720"/>
          </a:xfrm>
          <a:prstGeom prst="downArrow">
            <a:avLst>
              <a:gd name="adj1" fmla="val 50000"/>
              <a:gd name="adj2" fmla="val 350296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048120"/>
            <a:ext cx="22860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Morphism.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50532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or + (&amp;h&amp;o) :=  CostPlus{&amp;t&amp;i1, &amp;t&amp;i2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&amp;h&amp;i1, &amp;h&amp;i2, &amp;hck&amp;o, &amp;wa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343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e Clock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75248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410080"/>
            <a:ext cx="685800" cy="181080"/>
          </a:xfrm>
          <a:prstGeom prst="rightArrow">
            <a:avLst>
              <a:gd name="adj1" fmla="val 49528"/>
              <a:gd name="adj2" fmla="val 94682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502920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4864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0292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000" y="217476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5960" y="225108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720" y="4613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1, ..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6386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98108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20574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7A35B-D75C-463F-8726-6CE3284ED074}" type="datetime3">
              <a:rPr lang="en-US"/>
              <a:t>July 31, 2026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1400" y="2174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895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sm.table : can be used for different translatio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321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sm program needs Library for compi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stPlus) target spec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B0B04-6B46-4798-B830-5AE213497F62}" type="datetime3">
              <a:rPr lang="en-US"/>
              <a:t>July 31, 2026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2666880"/>
            <a:ext cx="4267440" cy="3048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2819520"/>
            <a:ext cx="9144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8880" y="171756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426708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4419720"/>
            <a:ext cx="1447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32004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20040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5029200"/>
            <a:ext cx="34290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4952880"/>
            <a:ext cx="11430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3640" y="266688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25909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96252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1, ..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1814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5105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951F7-6679-44DB-B0B3-46D995ACE461}" type="datetime3">
              <a:rPr lang="en-US"/>
              <a:t>July 31, 2026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505320" y="2590920"/>
            <a:ext cx="2133360" cy="2971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819520"/>
            <a:ext cx="18288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572000"/>
            <a:ext cx="18288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2004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320040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5029200"/>
            <a:ext cx="13716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5909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1814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960" y="25909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71240" y="5943600"/>
            <a:ext cx="67057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5410080"/>
            <a:ext cx="0" cy="53352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2819520"/>
            <a:ext cx="914400" cy="914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343400"/>
            <a:ext cx="914400" cy="914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37339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4724280"/>
            <a:ext cx="914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4952880"/>
            <a:ext cx="83808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58000" y="438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,..,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15000"/>
            <a:ext cx="373392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5029200"/>
            <a:ext cx="0" cy="6858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36B4A-350F-4F84-BBDD-87E53544A2FB}" type="datetime3">
              <a:rPr lang="en-US"/>
              <a:t>July 31, 2026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16765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6280" y="2438280"/>
            <a:ext cx="4347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for X    aX  + b X + c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iterative Newt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0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(n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&gt;= 0 ,  X(n+1) =  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hen | X(n-1) - X(n)|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91120" y="2286000"/>
            <a:ext cx="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1F142-3125-4406-9F5B-B48B5C2CC8ED}" type="datetime3">
              <a:rPr lang="en-US"/>
              <a:t>July 31, 202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514600"/>
            <a:ext cx="6167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--&gt; ordering -&gt; 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--&gt; Clusters(P) -&gt; ordering -&gt; 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AA32A-E433-44B9-8CDF-584B2ED26CE6}" type="datetime3">
              <a:rPr lang="en-US"/>
              <a:t>July 31, 2026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(|  Q | R |)    (ma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 Global 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artitioning :  Q’ and R’ (booleans are ad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Q1  = Clusters(Q’’| C(Q’)))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parated code 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1 = Clusters(R’’ | C(R’)))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parated code 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 Q1)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R1) 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0CDD5-4653-4659-A3AF-D64D423F9E0E}" type="datetime3">
              <a:rPr lang="en-US"/>
              <a:t>July 31, 2026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75248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(|  Q | R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ing :  Q’ and R’ (booleans are ad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  step :: (|  Abs(Q’) | Abs(R’) 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 latency :: (| C(Q’)  | C(R’) 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tep ---&gt;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53507-53E7-457C-81A6-65A128A2D7DF}" type="datetime3">
              <a:rPr lang="en-US"/>
              <a:t>July 31, 2026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Thierry Gautier</cp:lastModifiedBy>
  <cp:lastPrinted>2002-06-28T11:46:48Z</cp:lastPrinted>
  <dcterms:modified xsi:type="dcterms:W3CDTF">2002-08-30T13:52:47Z</dcterms:modified>
  <cp:revision>257</cp:revision>
  <dc:subject/>
  <dc:title>Formation</dc:title>
</cp:coreProperties>
</file>