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C45-EAB2-4758-B2E7-3570751B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9EE-3860-4D90-A619-82A6289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BEC-54FF-4181-96BA-70B9A61F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85E-70F5-4552-A133-D23E24BC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BB33-720C-4A8A-BDC4-3D7A50C4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6084-B819-4970-ACAD-CF78F6D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23FD-0E41-4243-B71C-D2F00ED3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3AB3-06F0-4E7A-B495-3AD6C09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37A-2EA1-4842-BE6A-DC504C2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363B-17A7-4872-A2A4-4631A3B4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4DC-96D8-4413-BF65-1F5F270D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0BA-2781-45D5-86D8-F25B7A1E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891-8296-48CE-954F-1C5BF08C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6126-9F94-4869-A7AB-0D66507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BC5E-D360-4A0A-99A8-89C17D33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7825-C2A4-4380-92C9-9D6980C0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B967-CDA7-4FA6-898E-5AE62F6A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9DE-420B-4FDA-9606-444AEAA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7B1-E39B-4FD8-99EA-A903F98F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216-56FC-45B5-9E23-527CA7FF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4CC-6A53-499C-B75C-494F1CD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292-DE3F-40C3-84FE-D8204472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F83-D06A-4621-ADAA-13CFAB8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7DB-7AB2-4F68-8BA4-B5CCB51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1421-0FA0-4990-8CAB-E518DAFBE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784-9BD8-4E8E-B42E-BB46D7AFB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rphism :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: using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stBib library :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st values (targ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software dataflow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architectur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ng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 evaluation :  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1-12-05T10:14:12Z</cp:lastPrinted>
  <dcterms:modified xsi:type="dcterms:W3CDTF">2004-06-28T13:35:41Z</dcterms:modified>
  <cp:revision>190</cp:revision>
  <dc:subject/>
  <dc:title>Formation</dc:title>
</cp:coreProperties>
</file>