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FEF-9891-4522-AB27-15DAFC03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CB7-F09B-4014-8A3B-1590DF81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E7CA-A3CE-4F99-A695-25BB3D7D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DD7D-27C2-413F-9CAE-4560126C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333D-1988-4ABF-9144-3B61B2CA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FE1F-2856-47E0-B536-4F70C223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2A9E-2519-441A-846F-08229F30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5EFD-F26B-467F-AC2B-3C6BDFA5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4464-7732-49E8-BD33-3929FDD4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B178-CB8C-4412-B50D-8088F762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41D5-9F6B-43CF-8310-336F3CA6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B7C-1C09-4D2A-9BB0-0A2C61E9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5FD5-13EA-4895-8A4B-9401F8C6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F3D8-D341-4DB9-91EE-CA60C637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722F-0D45-4945-A5C6-9A656431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9490-A191-47BA-ABB8-BBD8AADB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B849-D175-469D-9693-BC90D2CA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F99B-9F27-406E-80F2-F8E46BAC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72E-F640-48D0-B776-ECC9383C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311-5CE5-425C-BC5E-CAD4DB06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BF97-4A10-48B6-9370-D5CC5100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F67-41F4-4AD4-946A-DA5FEC3F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DDE-D8F0-4B6F-8849-028798AD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2D62-2EEB-4A64-A4C1-53E998C5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315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AB7D-2DB4-486D-B276-4ED3F1607573}" type="datetime3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172200"/>
            <a:ext cx="1828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8080" y="4876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15C5-E66A-4AD9-8815-B3FA76AA08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>
            <a:lum contrast="6000"/>
          </a:blip>
          <a:srcRect l="0" t="-145098" r="0" b="0"/>
          <a:stretch/>
        </p:blipFill>
        <p:spPr>
          <a:xfrm>
            <a:off x="7696080" y="-228600"/>
            <a:ext cx="121932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8F3B-1BCC-4C3D-B852-B8BD3246984C}" type="datetime3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7896-E476-4FFC-80D4-8760355FCF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4560" y="2174760"/>
            <a:ext cx="63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ïc Besnard  - Thierry Gautier - Paul Le Guer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4640" y="3165480"/>
            <a:ext cx="251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3D18D-B0A4-4F9D-95E8-252CFE7BE51A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gues’ examp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Hugues1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742000" cy="4140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648320" y="289548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312408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335268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358128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403848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419112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00600" y="228600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EF87D-9E59-4047-BB8A-E761A0DE0CCF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9160" y="2022480"/>
            <a:ext cx="717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tion of a performance evaluation 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or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 optim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chrony : set of functi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45827-DA4D-483C-BCEE-D01903775AAA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2743200"/>
            <a:ext cx="152280" cy="2133720"/>
          </a:xfrm>
          <a:prstGeom prst="downArrow">
            <a:avLst>
              <a:gd name="adj1" fmla="val 50000"/>
              <a:gd name="adj2" fmla="val 350296"/>
            </a:avLst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048120"/>
            <a:ext cx="228600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Morphism.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50532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or + (&amp;h&amp;o) :=  CostPlus{&amp;t&amp;i1, &amp;t&amp;i2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&amp;h&amp;i1, &amp;h&amp;i2, &amp;hck&amp;o, &amp;wa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4343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me Clock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1752480"/>
            <a:ext cx="914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5410080"/>
            <a:ext cx="685800" cy="181080"/>
          </a:xfrm>
          <a:prstGeom prst="rightArrow">
            <a:avLst>
              <a:gd name="adj1" fmla="val 49528"/>
              <a:gd name="adj2" fmla="val 94682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5029200"/>
            <a:ext cx="914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5486400"/>
            <a:ext cx="685800" cy="228600"/>
          </a:xfrm>
          <a:prstGeom prst="rightArrow">
            <a:avLst>
              <a:gd name="adj1" fmla="val 49528"/>
              <a:gd name="adj2" fmla="val 7500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029200"/>
            <a:ext cx="685800" cy="228600"/>
          </a:xfrm>
          <a:prstGeom prst="rightArrow">
            <a:avLst>
              <a:gd name="adj1" fmla="val 49528"/>
              <a:gd name="adj2" fmla="val 75000"/>
            </a:avLst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000" y="217476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,..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5960" y="225108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1,…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720" y="4613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c1, ..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5638680"/>
            <a:ext cx="11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1,..d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1,…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981080"/>
            <a:ext cx="685800" cy="228600"/>
          </a:xfrm>
          <a:prstGeom prst="rightArrow">
            <a:avLst>
              <a:gd name="adj1" fmla="val 49528"/>
              <a:gd name="adj2" fmla="val 7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2057400"/>
            <a:ext cx="685800" cy="228600"/>
          </a:xfrm>
          <a:prstGeom prst="rightArrow">
            <a:avLst>
              <a:gd name="adj1" fmla="val 49528"/>
              <a:gd name="adj2" fmla="val 7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113CE-4450-4291-9AD0-4770C916F757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1400" y="2174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895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ism.table : can be used for different translatio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2321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ism program needs Library for compi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stPlus) target spec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86832-10C7-4F6C-A7A2-8DBC3E313AEC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09680" y="2666880"/>
            <a:ext cx="4267440" cy="3048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2819520"/>
            <a:ext cx="91440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8880" y="171756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4267080"/>
            <a:ext cx="9144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4419720"/>
            <a:ext cx="1447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32004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20040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5029200"/>
            <a:ext cx="342900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4952880"/>
            <a:ext cx="114300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3640" y="2666880"/>
            <a:ext cx="8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,..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25909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1,…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3962520"/>
            <a:ext cx="10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c1, ..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181480"/>
            <a:ext cx="11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1,..d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5105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1,…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D146C-235D-4713-9DB4-AC4F0906516B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505320" y="2590920"/>
            <a:ext cx="2133360" cy="2971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819520"/>
            <a:ext cx="18288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4572000"/>
            <a:ext cx="18288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2004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3200400"/>
            <a:ext cx="1295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5029200"/>
            <a:ext cx="137160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4952880"/>
            <a:ext cx="99072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25909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1,…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5181480"/>
            <a:ext cx="11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1,..d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4267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1,…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960" y="259092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,..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77320" y="4952880"/>
            <a:ext cx="0" cy="99072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371240" y="5943600"/>
            <a:ext cx="670572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371600" y="5410080"/>
            <a:ext cx="0" cy="53352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2819520"/>
            <a:ext cx="914400" cy="914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4343400"/>
            <a:ext cx="914400" cy="914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373392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4724280"/>
            <a:ext cx="91440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4952880"/>
            <a:ext cx="83808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58000" y="4384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,..,v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5715000"/>
            <a:ext cx="373392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5029200"/>
            <a:ext cx="0" cy="6858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236BD-5CD2-42BD-AD6B-F5C4320CA715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16765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6280" y="2438280"/>
            <a:ext cx="4347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for X    aX  + b X + c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iterative Newto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0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(n)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&gt;= 0 ,  X(n+1) =  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when | X(n-1) - X(n)|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191120" y="2286000"/>
            <a:ext cx="9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19595-176F-4567-95E7-4F9ADF964CCB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514600"/>
            <a:ext cx="6167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--&gt; ordering -&gt; 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--&gt; Clusters(P) -&gt; ordering -&gt; 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97843-6497-4429-8704-E7EA8A1B7695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3716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(|  Q | R |)    (mapp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 Global comp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Partitioning :  Q’ and R’ (booleans are ad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Q1  = Clusters(Q’’| C(Q’)))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parated code 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R1 = Clusters(R’’ | C(R’)))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parated code 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 Q1)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R1)  |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1BEA9-3C63-4786-959F-A11556592C4A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752480"/>
            <a:ext cx="761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(|  Q | R |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comp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ing :  Q’ and R’ (booleans are ad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  step :: (|  Abs(Q’) | Abs(R’) |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 latency :: (| C(Q’)  | C(R’)  |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step ---&gt;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D0CC8-C57B-4B15-9CBA-4E7B89DDA520}" type="datetime3">
              <a:rPr lang="en-US"/>
              <a:t>July 29, 2026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Irisa-RENNES</dc:creator>
  <dc:description/>
  <dc:language>en-US</dc:language>
  <cp:lastModifiedBy>Thierry Gautier</cp:lastModifiedBy>
  <cp:lastPrinted>2002-06-28T11:46:48Z</cp:lastPrinted>
  <dcterms:modified xsi:type="dcterms:W3CDTF">2002-08-30T13:52:47Z</dcterms:modified>
  <cp:revision>257</cp:revision>
  <dc:subject/>
  <dc:title>Formation</dc:title>
</cp:coreProperties>
</file>