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687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042-356B-4838-A69F-53C9549E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CDA-4082-46BE-BA25-40F150DB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A79-03E2-4E7F-B860-EDCDCEE9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150-0ADE-4CF3-BBC1-3F03289E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9497-EA99-4F0E-A753-B5922F15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E93F-97D2-4DD0-BFB5-0E3C0C7F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82A5-E3E8-4240-88BE-8DC8BE1E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0A5E-3D0F-4CAA-AD43-5CCB08DF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B976-80AE-4C5F-B538-1C78C905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830-49D8-4868-977F-EA759D25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B911-0D51-4329-97B1-2E0DBBEB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5E4-E872-42CA-98ED-4136BCA5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9B1E-EBFA-4CB5-BF0A-6EB87647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12A1-BAB0-424C-AFD7-CAD7ED7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0DC6-F162-4D68-BCAA-AF298B74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0E90-D21E-44DA-BBEB-8CEAE905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BCD7-E6F9-4846-9668-0BA16955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F72-7847-4B4A-98DA-08D919C6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BC8-394A-4C56-8641-56693352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EB7-AE69-43C7-B26B-0B295F85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63E-6E93-4220-97FC-575580B9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8BF-EFDC-4AF4-986D-B908C393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693-765C-47D3-8B43-2B4118AF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180-60EB-48F8-B9AA-0B798A3C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647960" y="6248160"/>
            <a:ext cx="1600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2A81-48B1-4D54-BFE4-9AE828A26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-145098" r="0" b="0"/>
          <a:stretch/>
        </p:blipFill>
        <p:spPr>
          <a:xfrm>
            <a:off x="3735360" y="6400800"/>
            <a:ext cx="85716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900E-2CBA-47B9-AE10-0A147CD06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89000"/>
            <a:ext cx="86407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going use of Polychron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of Modular Avionics Architect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d on ARINC 653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13564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tegrated Modular Avionics architectures (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33376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D5B-48AF-488C-97B1-CF807E6F1C62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INC 653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cribes the APEX (APplication EXecutive) services (communication, synchronization, process/time management…) based on the IMA appro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410440" cy="39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36C-09DA-4FD8-BC7F-34428A46422B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89000"/>
            <a:ext cx="79182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ing of partitions within Polychr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1066680"/>
            <a:ext cx="79912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GNAL executive model of a part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rvices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process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artition level O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681360" cy="259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129-F568-4706-9D94-5A8D77DD244C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partition ON_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4BD-75B9-43B5-9E07-0ABA4D288D7C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to embedded implementation of avionics simulato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4880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rializing real-time JAVA applications in SIGNAL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INC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590920"/>
            <a:ext cx="1447920" cy="990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time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114800"/>
            <a:ext cx="1447920" cy="1219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rapper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e ARINC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f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590920"/>
            <a:ext cx="3581640" cy="990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2708280"/>
            <a:ext cx="3276720" cy="3049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reads 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048120"/>
            <a:ext cx="160020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048120"/>
            <a:ext cx="160020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4114800"/>
            <a:ext cx="3581640" cy="1219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191120"/>
            <a:ext cx="327636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ces of ARINC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4572000"/>
            <a:ext cx="3276360" cy="6858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4876920"/>
            <a:ext cx="137160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RINC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876920"/>
            <a:ext cx="137160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RINC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4572000"/>
            <a:ext cx="15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par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29880" y="36432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50840" y="3643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1BC-ACE4-4830-8254-85505F810511}" type="slidenum">
              <a:t>5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lbesnard</cp:lastModifiedBy>
  <cp:lastPrinted>2000-11-30T10:20:40Z</cp:lastPrinted>
  <dcterms:modified xsi:type="dcterms:W3CDTF">2007-04-24T07:06:27Z</dcterms:modified>
  <cp:revision>92</cp:revision>
  <dc:subject/>
  <dc:title>Formation</dc:title>
</cp:coreProperties>
</file>