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687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0ED-C45B-46B3-832A-69CA5FD8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545-6CF5-42F1-A7A1-5940F2E1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9EB-A7EF-48B8-B015-F3257CBD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EF5-C7E0-4636-B440-A80FCF6A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6B35-A516-41BB-BB69-A57B287F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6ACF-AF17-4DD3-BB85-C8D593BA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84D9-3604-448C-8024-D8B1F396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A5AB-615E-4148-A253-209646B3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C62B-AD7C-4200-A9F3-00CD7DFF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50C7-98E1-428D-997F-34E290F3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4DF-D73D-48DD-8559-0CE7BBD1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8C9-36A3-4407-8545-32EB65CE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47BD-44C9-4F1C-9094-2C6AB4D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6D5C-FD33-473A-BDB9-43FEFFA6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0142-7704-48BE-B0F4-AA40EAD0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96BB-9221-4D31-B30E-73EB0EAC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FBAE-CF57-4679-AD12-DD6221F0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F2C-1392-4DB7-B565-EFF3945B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DFB-EE40-4F3D-9CE0-998D73A1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445-24FA-42AC-B98B-F6222660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ABE-79AC-4623-BB16-554EF2D1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4D3-BEA2-44C5-89D8-EEC791CC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437-14A3-4F5E-A7B9-29D9E1E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490-002C-42F4-B5BF-19EAABE8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647960" y="6248160"/>
            <a:ext cx="1600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6FC6-D767-4989-866C-32A284EB9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-145098" r="0" b="0"/>
          <a:stretch/>
        </p:blipFill>
        <p:spPr>
          <a:xfrm>
            <a:off x="3735360" y="6400800"/>
            <a:ext cx="85716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06E-A847-4793-B228-0E2487594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89000"/>
            <a:ext cx="86407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going use of Polychron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of Modular Avionics Architect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d on ARINC 653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13564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tegrated Modular Avionics architectures (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33376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674-66A3-4F04-B798-7BD4DAEFF543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INC 653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cribes the APEX (APplication EXecutive) services (communication, synchronization, process/time management…) based on the IMA appro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410440" cy="39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708-DE39-43D8-B5FF-7CC49B3865D8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89000"/>
            <a:ext cx="79182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ing of partitions within Polychr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1066680"/>
            <a:ext cx="79912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GNAL executive model of a part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rvices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process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artition level O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681360" cy="259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329-C1FD-428A-9D1D-FEDA8EAD92BE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partition ON_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36E-9395-46E7-B0AD-CE868897D616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to embedded implementation of avionics simulato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4880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rializing real-time JAVA applications in SIGNAL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INC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590920"/>
            <a:ext cx="1447920" cy="990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time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114800"/>
            <a:ext cx="1447920" cy="1219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rapper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e ARINC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f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590920"/>
            <a:ext cx="3581640" cy="990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2708280"/>
            <a:ext cx="3276720" cy="3049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reads 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048120"/>
            <a:ext cx="160020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048120"/>
            <a:ext cx="160020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4114800"/>
            <a:ext cx="3581640" cy="1219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191120"/>
            <a:ext cx="327636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ces of ARINC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4572000"/>
            <a:ext cx="3276360" cy="6858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4876920"/>
            <a:ext cx="137160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RINC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876920"/>
            <a:ext cx="137160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RINC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4572000"/>
            <a:ext cx="15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par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29880" y="36432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50840" y="3643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E66-32BF-48C4-8985-68F99EE7D280}" type="slidenum">
              <a:t>5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lbesnard</cp:lastModifiedBy>
  <cp:lastPrinted>2000-11-30T10:20:40Z</cp:lastPrinted>
  <dcterms:modified xsi:type="dcterms:W3CDTF">2007-04-24T07:06:27Z</dcterms:modified>
  <cp:revision>92</cp:revision>
  <dc:subject/>
  <dc:title>Formation</dc:title>
</cp:coreProperties>
</file>