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DB39-739B-4A26-A0FC-104E1E45A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A208-D23E-4E7E-B659-5E25DC750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78BF-44A6-40A0-AFC8-65E14141B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536F-4334-49F5-B2EA-DEBCF3BC8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60B6A-7EC1-42A3-A54B-AC357D134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0A6A4-18CA-4439-B5B5-A7D2FEA7E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2A99D-9415-49BF-B1E0-E858B18BD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21E79-ABD2-4EED-8DA8-7254221F3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814E6-568D-4D04-AC6B-421B6C85D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73D92-0077-45F1-8147-E505A3F98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A0531-5394-4849-A336-76B44CDD3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C37C-CC65-4F98-99C9-232681323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1632F-C5C8-4D4D-89BF-FFE291B1A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9F41A-6E9E-4BC5-B049-104F49D68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F5266-1692-434F-ADA9-FC4482E15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EAFC8-CFAF-4E4E-8EC8-F0D0C9917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B2C1F-789A-4796-97DB-595D10224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C0AE-11F0-438A-A4DD-E04A064FF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33ED-99F5-4F02-89F3-047BC8883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6092-0B13-4E18-B066-FE9D051EA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962E-C094-4A49-B65C-47815FD04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B5A3-CEF1-46B3-93FE-8B4D318B9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9F89-5858-4D58-AF47-E0C3D7436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0A4C-6D55-4A55-AF03-418778C05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51a2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99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462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60920" indent="-226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609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609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315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352680" y="6172200"/>
            <a:ext cx="18288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38080" y="4876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FCDB9-FFE0-4F2B-B1F4-42201B45410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>
            <a:lum contrast="6000"/>
          </a:blip>
          <a:srcRect l="0" t="-145098" r="0" b="0"/>
          <a:stretch/>
        </p:blipFill>
        <p:spPr>
          <a:xfrm>
            <a:off x="7696080" y="-228600"/>
            <a:ext cx="1219320" cy="60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7761240" y="1461240"/>
            <a:ext cx="16905240" cy="10793520"/>
            <a:chOff x="-7761240" y="1461240"/>
            <a:chExt cx="16905240" cy="10793520"/>
          </a:xfrm>
        </p:grpSpPr>
        <p:sp>
          <p:nvSpPr>
            <p:cNvPr id="46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51a2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7761240" y="1461240"/>
              <a:ext cx="13452120" cy="10793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05" y="120"/>
                  </a:moveTo>
                  <a:arcTo wR="10800" hR="10800" stAng="-4887058" swAng="4887058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05" y="120"/>
                  </a:moveTo>
                  <a:arcTo wR="10800" hR="10800" stAng="-4887058" swAng="4887058"/>
                </a:path>
              </a:pathLst>
            </a:custGeom>
            <a:noFill/>
            <a:ln cap="rnd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55140-7036-4CC0-8165-30B602C7E40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63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feAi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6-28, 2001</a:t>
            </a: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Morphism : an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876312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feAi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6-28, 2001</a:t>
            </a: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orphism: using libr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868680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feAi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6-28, 2001</a:t>
            </a: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stBib library : det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53452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feAi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6-28, 2001</a:t>
            </a: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Cost values (targe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8610840" cy="457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feAi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6-28, 2001</a:t>
            </a: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876312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feAi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6-28, 2001</a:t>
            </a: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escription of the software dataflow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83818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feAi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6-28, 2001</a:t>
            </a: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escription of the architecture tar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1532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feAi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6-28, 2001</a:t>
            </a: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a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845820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feAi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6-28, 2001</a:t>
            </a: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Global compi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861048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feAi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6-28, 2001</a:t>
            </a: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Global compiling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8534520" cy="457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feAi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6-28, 2001</a:t>
            </a: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dding communication chann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8382240" cy="441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feAi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6-28, 2001</a:t>
            </a: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erformance evaluation :  morph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feAi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6-28, 2001</a:t>
            </a: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orphism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610480" cy="449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feAi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6-28, 2001</a:t>
            </a: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6:36Z</dcterms:created>
  <dc:creator>Irisa-RENNES</dc:creator>
  <dc:description/>
  <dc:language>en-US</dc:language>
  <cp:lastModifiedBy>lbesnard</cp:lastModifiedBy>
  <cp:lastPrinted>2001-12-05T10:14:12Z</cp:lastPrinted>
  <dcterms:modified xsi:type="dcterms:W3CDTF">2004-06-28T13:35:41Z</dcterms:modified>
  <cp:revision>190</cp:revision>
  <dc:subject/>
  <dc:title>Formation</dc:title>
</cp:coreProperties>
</file>