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B37-0AAD-4B67-B7C8-85C4B545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3A2-E9EB-4BB7-81FE-232FF74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A4D-13CC-44D6-B08E-FCB0ECAD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DA6-D0AA-4620-8A97-525A7661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D6F-68B7-4C06-9A73-6C13859B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8E61-0832-4519-840C-7495DA6C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827B-C806-420A-BF8E-B299934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057-11EC-4DEF-81F5-1F302E1C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146-2603-4E28-BBB5-D757FC3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A0B0-43D2-4638-B580-5833338E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B793-B186-4A58-B6EF-8A37339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999-0622-4C82-B31B-6E3A5A5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383-9A6A-4395-A715-5C5047B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C449-2D25-4E98-B063-9FD12C0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A34F-C720-4471-898D-6A10BBA3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F0D7-BBEB-4594-893D-CDEE22E2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06E4-2F6E-4C92-8BCC-C8C9B6FE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B00-8E2B-4A3A-8139-8282E73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FA7-5935-4C44-BA7D-DCA0D71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E42-25CB-4D03-9B7C-BDE1725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7CB-245C-4E59-933C-31331B7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F0F-AAA3-490B-BACF-5FAE9BE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4CC-6A71-4F98-9234-485AF34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5D1-5468-4161-84A1-C78F3BA3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1914-2FE8-4E3C-BB9A-376538BD563A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49C-D543-40D3-ABD5-D153CE50D5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8A57-84B1-4222-B329-C8B4EEB93E77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B724-D2DB-418E-B931-C082E39FA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4560" y="217476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ïc Besnard  - Thierry Gautier - Paul Le Guer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4640" y="3165480"/>
            <a:ext cx="25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99990-A0DB-4B7D-82E4-516FD76FE93C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ues’ examp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Hugues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42000" cy="414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1240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812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038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19112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8600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FC7F9-56A8-4FFA-9B18-3E3AD856B45A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9160" y="2022480"/>
            <a:ext cx="717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 of a performance evaluation 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chrony : set of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8EFEA-F8D6-448B-BFCD-9ED88DC7F10D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743200"/>
            <a:ext cx="152280" cy="2133720"/>
          </a:xfrm>
          <a:prstGeom prst="downArrow">
            <a:avLst>
              <a:gd name="adj1" fmla="val 50000"/>
              <a:gd name="adj2" fmla="val 350296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048120"/>
            <a:ext cx="22860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Morphism.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5053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+ (&amp;h&amp;o) :=  CostPlus{&amp;t&amp;i1, &amp;t&amp;i2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amp;h&amp;i1, &amp;h&amp;i2, &amp;hck&amp;o, &amp;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Cloc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7524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410080"/>
            <a:ext cx="685800" cy="181080"/>
          </a:xfrm>
          <a:prstGeom prst="rightArrow">
            <a:avLst>
              <a:gd name="adj1" fmla="val 49528"/>
              <a:gd name="adj2" fmla="val 94682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02920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86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0292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000" y="217476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5960" y="22510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720" y="4613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6386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057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8338-A000-49FD-8402-4351D8ABE986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400" y="2174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.table : can be used for different transla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32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 program needs Library for comp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stPlus) target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C8B5C-BB35-4749-B253-B3F8A9D83195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2666880"/>
            <a:ext cx="426744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2819520"/>
            <a:ext cx="9144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880" y="171756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2670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41972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20040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029200"/>
            <a:ext cx="3429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952880"/>
            <a:ext cx="1143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266688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909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96252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105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5922A-54B0-4C87-9249-248CF35A18B0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05320" y="2590920"/>
            <a:ext cx="2133360" cy="2971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572000"/>
            <a:ext cx="18288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20040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5909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960" y="25909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71240" y="5943600"/>
            <a:ext cx="6705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5410080"/>
            <a:ext cx="0" cy="53352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819520"/>
            <a:ext cx="91440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343400"/>
            <a:ext cx="91440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733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4724280"/>
            <a:ext cx="914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8380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58000" y="438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,..,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37339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029200"/>
            <a:ext cx="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41CD-5727-42B4-B6AB-5316F8776431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6765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6280" y="2438280"/>
            <a:ext cx="434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X    aX  + b X + c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terative Newt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0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n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gt;= 0 ,  X(n+1) =  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 | X(n-1) - X(n)|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1120" y="2286000"/>
            <a:ext cx="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70DB5-8AB6-45D0-A923-71891BA7070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514600"/>
            <a:ext cx="616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Clusters(P) 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926AD-094C-4588-AD64-75FC09C2698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   (m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 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Q1  = Clusters(Q’’| C(Q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1 = Clusters(R’’ | C(R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 Q1)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R1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3899-4649-4E46-AF74-76B87996BCF3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7524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step :: (|  Abs(Q’) | Abs(R’) 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 latency :: (| C(Q’)  | C(R’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tep ---&gt;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55D6F-16D8-48B9-A5DD-506FF7ED7E8B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Thierry Gautier</cp:lastModifiedBy>
  <cp:lastPrinted>2002-06-28T11:46:48Z</cp:lastPrinted>
  <dcterms:modified xsi:type="dcterms:W3CDTF">2002-08-30T13:52:47Z</dcterms:modified>
  <cp:revision>257</cp:revision>
  <dc:subject/>
  <dc:title>Formation</dc:title>
</cp:coreProperties>
</file>